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73B-86A9-4B89-B0E0-CCBE0D4F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03A-8A35-4A3F-A49F-026D267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C1C-D34C-4A6B-8AE1-90250B1B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2E8-215E-4733-9ACD-83DC0DE0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74D-BE5B-40B6-8ACF-43140E1F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49D-2F75-4BA5-9A85-26FBEFF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209-BB09-4D58-A0A0-18803770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246-C4BD-4839-91B1-F3928E97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E9A-6B3F-4B9A-ABFC-BA67FE6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A8A-1E53-43B7-B4D8-5C2EA54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ECD-BC52-434F-AC0B-EB2B9B5F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494-5E3B-403F-BBD3-3427DED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B69D-BC80-4AD4-87C6-01690C00879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137040" y="404640"/>
            <a:ext cx="574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to program Javy wykonywany po str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era WWW, wykorzystujący model program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ypu zlecenie-odpowied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pozwalają na budowanie stron internet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treścią generowaną w sposób dynamicz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tandardowy schemat dział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chemat"/>
          <p:cNvPicPr/>
          <p:nvPr/>
        </p:nvPicPr>
        <p:blipFill>
          <a:blip r:embed="rId2"/>
          <a:stretch/>
        </p:blipFill>
        <p:spPr>
          <a:xfrm>
            <a:off x="3995640" y="2781360"/>
            <a:ext cx="4276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139200" y="404640"/>
            <a:ext cx="5325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NEROWANIE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odpowiedzi na zlecenie serwlet odsyła kliento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biekt o zachowaniu określonym przez interfe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ten definiuje metody pozwalaję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słać do klienta strumień da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ekstowych - korzystające z obiektu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intWrit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zwracanego przez metod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Writer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biektu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inarnych -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OutputStream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metody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OutputStrea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eślić rodzaj treści (content type) przesyłan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klienta (np. text/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stalić tryb bufor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rozszerza zak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nych o informacje, takie jak kody stan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iastecz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48560" y="404640"/>
            <a:ext cx="572652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ublic class BookDetailsServlet extends HttpServlet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ublic void doGet (HttpServletRequest reques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HttpServletResponse respon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hrows ServletException, IOException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setContentType("text/html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setBufferSize(8192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rintWriter out = response.getWriter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html&gt;" + "&lt;head&gt;&lt;title&gt; +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messages.getString("TitleBookDescription") + &lt;/title&gt;&lt;/head&gt;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String bookId = request.getParameter("bookId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if (bookId != nul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BookDetails bd = bookDB.getBookDetails(bookI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h2&gt;" + bd.getTitle() + "&lt;/h2&gt;" 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 catch (BookNotFoundException ex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resetBuffer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hrow new ServletException(ex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/body&gt;&lt;/html&gt;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clos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138840" y="404640"/>
            <a:ext cx="552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BSŁUGA ZDAR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czas cyklu życiowego serwletu mogą wystąpi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maite zdarzenia, które należy obsłużyć. Trze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tym celu zaimplementować odpowiednie interfej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s "nasłuchujących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48000" y="2349360"/>
          <a:ext cx="5184720" cy="3267360"/>
        </p:xfrm>
        <a:graphic>
          <a:graphicData uri="http://schemas.openxmlformats.org/drawingml/2006/table">
            <a:tbl>
              <a:tblPr/>
              <a:tblGrid>
                <a:gridCol w="1008000"/>
                <a:gridCol w="1152720"/>
                <a:gridCol w="3024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z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ejs i k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1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k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jalizacja i destrukc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ServletContextListener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letContext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nie lub usunięcie atrybu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ServletContextAttribute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letContextAttribute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worzenie, unieważnienie,  time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http.HttpSession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Session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nie lub usunięcie atrybu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http.HttpSessionAttribute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SessionBinding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134160" y="404640"/>
            <a:ext cx="537444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final class ContextListe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implements ServletContextListe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rivate ServletContext contex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void contextInitialized(ServletContextEvent ev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context = event.getServletContex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try { … } catch (Exception ex) { …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void contextDestroyed(ServletContextEvent ev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context = event.getServletCont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139920" y="404640"/>
            <a:ext cx="574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 to obiekt odpowiedzialny za transformacj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agłówków lub treści) obiektów zlecenia i odpowiedz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kres działania filtrów obejmuje także możliwoś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strzymania przepływu danych między kliente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em oraz dostęp do zasobów zewnętrz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aktyczne zastosowania filtró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utentykacja użytkowni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og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wersja obraz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presja d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filtrów polega na implemen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w szczególnośco funk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oFilter(), init()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 destroy()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 zazwyczaj tworzą łańcuch, który poddaje obie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ejściowy/wyjściowy kolejnym modyfikacj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erChai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37760" y="404640"/>
            <a:ext cx="4604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chemat mapowania filtr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 powinny być oddzielnymi jednost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zależnymi od konkretnych serwletó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025"/>
          <p:cNvPicPr/>
          <p:nvPr/>
        </p:nvPicPr>
        <p:blipFill>
          <a:blip r:embed="rId2"/>
          <a:stretch/>
        </p:blipFill>
        <p:spPr>
          <a:xfrm>
            <a:off x="3348000" y="1197000"/>
            <a:ext cx="51847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195000" y="404640"/>
            <a:ext cx="522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TRZYMANIE SES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żywamy do tego obiekt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ssi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zuskujemy dzięki metodzie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Session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bi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lec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HttpSession session = request.getSess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ShoppingCart car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(ShoppingCart)session.getAttribute("ca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session.invalidat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64760" y="404640"/>
            <a:ext cx="56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NALIZACJ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zwyczaj wystarczy nadpisać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estroy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 ma miejsce dopiero wtedy, gdy obsł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szystkich  zleceń  zostanie zakońc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szczególnych przypadkach można zliczać liczb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ziałających wątków (to jedna z wyjątkowych sytua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dy możemy zmodyfikować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, zabijać wątki działające długo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132720" y="404640"/>
            <a:ext cx="317808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-komercyj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omcat Ap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eronimo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et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n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ercyj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ava System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ava System 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BEA WebLogic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Borland Enterpris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racle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Macromedia J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ercyjne (open-sourc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lass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eb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8320" y="364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Uwagi dodat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37760" y="404640"/>
            <a:ext cx="5900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I DODAT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można trzymać na dysku w postaci plik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.war (plik JAR do archiwizacji aplikacji sieciowy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mogą być generowane automatycz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z Java ServerPages (JSP) lub używane równole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JSP w ramach wzorca projektowego "Model 2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estaw informacji pobranych od użytkownika pr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dziale interakcyjnych składników stro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p. formularza), może zostać przekazywany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 do serwletu, tworząc kaskad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czas działania serwletu może wystąpić dowo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lość błędów. Kontener WWW generuje wtedy domyśl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tronę błędu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ervlet Exception Has Occurre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la danego pliku WAR możemy określić własną stron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łędu (File Refs inspector w Deploy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36320" y="404640"/>
            <a:ext cx="5458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punktu widzenia programisty, serwlet to po pros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a z klas Javy, umożliwia zatem korzysta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wszelkich funkcji dostępnych za pośrednictw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ava API, takich j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unikacja z bazą d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lne wywołania metod (R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kcja między obiektami w obrę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óżnych systemów (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potrafią zapamiętywać sesję użytkow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przestrzeni kolejnych transakcji z serwe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łużą do tego mechanizmy, takie j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iasteczka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enne ses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dpisywanie adresu (URL Rewr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137760" y="404640"/>
            <a:ext cx="5684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serwletu dostępny jest poprzez paki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javax.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Dostarcza on funkcji implementując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kcję między pojedynczym serwlete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em WW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 WWW jest cześcią serw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powiedzialną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unikację z wewnętrznymi aplikacjam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rządzanie cyklami życiowami serwle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pisywanie adresów WWW do poszczegól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eryfikację praw dostę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7040" y="404640"/>
            <a:ext cx="586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(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 jest obiektem, który co pew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zas otrzymuje zlecenie (obiekt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 następnie, na podstawie tego zlecenia gener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powiedz (obiekt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kiet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javax.servlet.http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definiuje podklas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raz odpowiednio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az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ssi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zgodne ze specyfikacją HT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Contex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to obiekt (jeden na całą aplikacj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arczający serwletom danych na temat konte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 środowiska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żdy serwlet posiada ponadto własny obiekt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erConfig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y odpowiada za preferenc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, m.in. sposób inicjaliz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139200" y="404640"/>
            <a:ext cx="589716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 polega na dostarcze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plementacji interfejsu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definiując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1. 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zostaje załadowana wraz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poczęciem pracy konte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2. kontener wywołuje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init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erwletu, inicjalizują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o. Serwlet jest gotowy, by przyjmować zlecenia kli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asłuchiwane przez konte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. każde zlecenie jest obsługiwane przez oddziel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ątek. Kontener wywołuje wtedy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, która określa typ zlecenia HTTP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zależności od tego wywołuje jedną z met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Pos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Ge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Trac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e muszą zostać zaimplementowane prz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istę (wpp. zostaje wywołana odpowied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etoda z nadkla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4. kontener kończy pracę serwletu, wywołując metod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estro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37760" y="404640"/>
            <a:ext cx="55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wolno nadpisywać metody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za szczególnymi przypadkami, o których późn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6320" y="404640"/>
            <a:ext cx="46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ICJALIZACJ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arczy nadpisać med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init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erwl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138120" y="404640"/>
            <a:ext cx="558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BIERANIE ZLE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pobiera od klienta obiekt, który implemen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niesie ze sobą określ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rame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przypadk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te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bejmują m.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dres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główki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ytanie (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query string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zó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http://&lt;host&gt;:&lt;port&gt;&lt;request path&gt;?&lt;query str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137400" y="404640"/>
            <a:ext cx="55832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nk na stro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&lt;a href="/bookstore1/catalog?Add=101"&gt;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Dodaj</a:t>
            </a: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wyniku kliknięcia serwlet otrzymuje zlecenie, któ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oże przeanalizow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request.getParameter("Add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2:14:25Z</dcterms:created>
  <dc:creator>Ozell X</dc:creator>
  <dc:description/>
  <dc:language>en-US</dc:language>
  <cp:lastModifiedBy>Janusz Jabłonowski</cp:lastModifiedBy>
  <dcterms:modified xsi:type="dcterms:W3CDTF">2007-04-26T07:16:13Z</dcterms:modified>
  <cp:revision>224</cp:revision>
  <dc:subject/>
  <dc:title>Slajd 1</dc:title>
</cp:coreProperties>
</file>