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C35-82EB-4FA8-900B-1CA708B414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 będę mówił o wyrazeniach regular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ieważ ogólna składnie jest niemal identyczna jak składnia javy, więc przejdziemy od razu do konkretnych przykład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re Java developers may use single-method interfaces (Runnable, the Command pattern) combined with anonymous inner classes, Groovy allows you to accomplish the same sort of tasks in a less verbose manner. In addition, closures have fewer constraints than anonymous inner classes and include extra function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re Java developers may use single-method interfaces (Runnable, the Command pattern) combined with anonymous inner classes, Groovy allows you to accomplish the same sort of tasks in a less verbose manner. In addition, closures have fewer constraints than anonymous inner classes and include extra function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C9F-EF9F-4804-882F-8CF3F026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CE2-94A6-4F2C-97A0-B8962510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F96-DDA9-4AC1-96B9-11415A02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E03-9D85-46E2-A8E2-A72C0324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1C3-DCA1-4E6A-B076-78DB43B3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1E4-E6E4-459E-BCE7-A500FFFB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F84-F3BD-4D97-B567-9F6B073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AB1-AB73-49DD-B61A-63477EE4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6000" y="274320"/>
            <a:ext cx="613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175-A447-4401-BC30-CF12C7F6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E7D-8162-44D3-A6F1-55E6D90B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2E2-F007-4077-80A4-C20AFFE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33E-06FE-43AC-9385-FB66DD0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Michał Prządk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adka@g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42D-2BB9-41E0-AAA4-B2B775E32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Groov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maja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Składnia: </a:t>
            </a:r>
            <a:r>
              <a:rPr b="0" i="1" lang="pl-PL" sz="3600" spc="-1" strike="noStrike">
                <a:solidFill>
                  <a:srgbClr val="ffffff"/>
                </a:solidFill>
                <a:latin typeface="Arial"/>
              </a:rPr>
              <a:t>kolekcje i iter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755640" y="1557360"/>
            <a:ext cx="5616720" cy="3391560"/>
            <a:chOff x="755640" y="1557360"/>
            <a:chExt cx="5616720" cy="3391560"/>
          </a:xfrm>
        </p:grpSpPr>
        <p:sp>
          <p:nvSpPr>
            <p:cNvPr id="95" name=""/>
            <p:cNvSpPr/>
            <p:nvPr/>
          </p:nvSpPr>
          <p:spPr>
            <a:xfrm>
              <a:off x="755640" y="1557360"/>
              <a:ext cx="5184720" cy="2879640"/>
            </a:xfrm>
            <a:prstGeom prst="wedgeEllipseCallout">
              <a:avLst>
                <a:gd name="adj1" fmla="val -17361"/>
                <a:gd name="adj2" fmla="val 830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7640" y="2084400"/>
              <a:ext cx="482472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s = ["John", "Jake", "Kate" 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ges    = [10, 12, 14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s2 = names as String[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ges2 = [11,13,15] as int[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 = ['A', 'B', 'C']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 += ['D']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 - = ['C'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43280" y="1773360"/>
            <a:ext cx="5543640" cy="3240000"/>
            <a:chOff x="2843280" y="1773360"/>
            <a:chExt cx="5543640" cy="3240000"/>
          </a:xfrm>
        </p:grpSpPr>
        <p:sp>
          <p:nvSpPr>
            <p:cNvPr id="98" name=""/>
            <p:cNvSpPr/>
            <p:nvPr/>
          </p:nvSpPr>
          <p:spPr>
            <a:xfrm>
              <a:off x="2843280" y="1773360"/>
              <a:ext cx="5184720" cy="3240000"/>
            </a:xfrm>
            <a:prstGeom prst="wedgeEllipseCallout">
              <a:avLst>
                <a:gd name="adj1" fmla="val -52541"/>
                <a:gd name="adj2" fmla="val 65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781360"/>
              <a:ext cx="496728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s_ages = ["John":10, "Jake":12, "Kate":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Courier New"/>
                </a:rPr>
                <a:t>names_ages.put("Joe",1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Courier New"/>
                </a:rPr>
                <a:t>names_ages.Jo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851280" y="3284640"/>
            <a:ext cx="5904000" cy="3240000"/>
            <a:chOff x="3851280" y="3284640"/>
            <a:chExt cx="5904000" cy="3240000"/>
          </a:xfrm>
        </p:grpSpPr>
        <p:sp>
          <p:nvSpPr>
            <p:cNvPr id="101" name=""/>
            <p:cNvSpPr/>
            <p:nvPr/>
          </p:nvSpPr>
          <p:spPr>
            <a:xfrm>
              <a:off x="3851280" y="3284640"/>
              <a:ext cx="5292720" cy="3240000"/>
            </a:xfrm>
            <a:prstGeom prst="wedgeEllipseCallout">
              <a:avLst>
                <a:gd name="adj1" fmla="val -67458"/>
                <a:gd name="adj2" fmla="val 257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8000" y="3882960"/>
              <a:ext cx="49672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// iterate over a 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ef x =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for ( i in 0..9 ) {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x +=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// iterate over a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x =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for ( i in [0, 1, 2, 3, 4] ) {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x +=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roovy w działaniu: wzorzec Odwiedzają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Grai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rąb dla Groovy oparty o „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coding by conventio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dea bardzo zbliżona do Ruby on Rails („Groovy on Grail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kładowa aplik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dstaw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stos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kład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roovy w działan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r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dstaw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iektowy język „skryptowy” na JVM – kompilowany do bajtkodu Javy (kompilacja przy wykonani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spółpracuje z kodem Javy i vice ve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kładnia wzorowana na Ja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oncepcyjne wzorowany na Pythonie, Ruby, Perlu i Smalltal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627280" y="4724280"/>
            <a:ext cx="6337440" cy="1152360"/>
            <a:chOff x="2627280" y="4724280"/>
            <a:chExt cx="6337440" cy="1152360"/>
          </a:xfrm>
        </p:grpSpPr>
        <p:sp>
          <p:nvSpPr>
            <p:cNvPr id="57" name=""/>
            <p:cNvSpPr/>
            <p:nvPr/>
          </p:nvSpPr>
          <p:spPr>
            <a:xfrm>
              <a:off x="2627280" y="4724280"/>
              <a:ext cx="6337440" cy="11523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5280" y="5157360"/>
              <a:ext cx="47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def name='World'; println </a:t>
              </a:r>
              <a:r>
                <a:rPr b="0" lang="pl-PL" sz="1400" spc="-1" strike="noStrike">
                  <a:solidFill>
                    <a:srgbClr val="339966"/>
                  </a:solidFill>
                  <a:latin typeface="Courier New"/>
                </a:rPr>
                <a:t>"Hello $name!"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dstaw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ważniejsze cechy języ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szystko jest obiektem – także funkc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ypowanie statyczne lub dynamicz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bsługa list, map, tablic i wyrażeń regularnych „wbudowana” w składni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bsługa bloków (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closures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ładowywanie operator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kładniowe wsparcie dla języków znaczników (HTML, XM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340000" y="4508640"/>
            <a:ext cx="6337440" cy="1152360"/>
            <a:chOff x="2340000" y="4508640"/>
            <a:chExt cx="6337440" cy="1152360"/>
          </a:xfrm>
        </p:grpSpPr>
        <p:sp>
          <p:nvSpPr>
            <p:cNvPr id="63" name=""/>
            <p:cNvSpPr/>
            <p:nvPr/>
          </p:nvSpPr>
          <p:spPr>
            <a:xfrm>
              <a:off x="2340000" y="4508640"/>
              <a:ext cx="6337440" cy="11523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6720" y="4724280"/>
              <a:ext cx="47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list = ["Rod", "Carlos", "Chris"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shorts = list.findAll { it.size() &lt;= 4 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shorts.each { println it 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50920" y="1989000"/>
            <a:ext cx="7057800" cy="2448000"/>
            <a:chOff x="250920" y="1989000"/>
            <a:chExt cx="7057800" cy="2448000"/>
          </a:xfrm>
        </p:grpSpPr>
        <p:sp>
          <p:nvSpPr>
            <p:cNvPr id="67" name=""/>
            <p:cNvSpPr/>
            <p:nvPr/>
          </p:nvSpPr>
          <p:spPr>
            <a:xfrm>
              <a:off x="250920" y="1989000"/>
              <a:ext cx="7057800" cy="2448000"/>
            </a:xfrm>
            <a:prstGeom prst="wedgeEllipseCallout">
              <a:avLst>
                <a:gd name="adj1" fmla="val -32143"/>
                <a:gd name="adj2" fmla="val 7885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79280" y="2422440"/>
              <a:ext cx="4752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public class GVector extends java.util.Vector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public void apply( c )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for (i in 0..&lt;size())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this[i] = c(this[i]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astosow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ęzyki skryptowe </a:t>
            </a:r>
            <a:r>
              <a:rPr b="0" lang="pl-P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języki „bardzo wysokiego poziomu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zybkie” programow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stosowania dla Groov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ste, konkretne probl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toty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t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ładnia: dynamiczne typow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75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0920" y="2060640"/>
              <a:ext cx="5905800" cy="30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ass Song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ass Book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ef doSomething(thing)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rintln "going to do something with a thing named = " + thing.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ładnia: dynamiczne typow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80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0920" y="2365200"/>
              <a:ext cx="5905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ySong = new Song(length:90, name:"Burning Down the House"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yBook = new Book(name:"One Duck Stuck", author:"Phyllis Root"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Something(mySong) //prints Burning Down the 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Something(myBook) //prints One Duck Stu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notherSomething = doSome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notherSomething(myBook) //prints One Duck Stu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ładnia: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knię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85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6000" y="1889280"/>
              <a:ext cx="4824360" cy="31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lass Dog{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rain(){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tion.call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it = { println "Sit, Sit! Sit! Good dog"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own = { println "Down! DOWN!"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yDog = new Dog(action:si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yDog.train()  // prints Sit, Sit! Sit! Good d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ollie = new Dog(action:dow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ollie.train() // prints Down! DOWN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ładnia: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knię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90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1889280"/>
              <a:ext cx="482436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tton b = new Button ("Push Me"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.onClick (new Actio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ublic void execute (Object targe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ttonClicked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urier New"/>
                </a:rPr>
                <a:t>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tton b = new Button ("Push Me"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.onClick { buttonClicked() 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20:49:04Z</dcterms:created>
  <dc:creator>michal</dc:creator>
  <dc:description/>
  <dc:language>en-US</dc:language>
  <cp:lastModifiedBy>Janusz Jabłonowski</cp:lastModifiedBy>
  <dcterms:modified xsi:type="dcterms:W3CDTF">2007-05-22T21:53:08Z</dcterms:modified>
  <cp:revision>57</cp:revision>
  <dc:subject/>
  <dc:title>Slide 1</dc:title>
</cp:coreProperties>
</file>