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D21-07F2-4302-9F0E-D9394CC6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5A4-EB27-4786-8F4D-EF28639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6E6-5690-4C1E-BAAF-0405D60E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F32-42E5-451A-A574-D14BB12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E0D-8F8B-4BB7-A6D9-A115EDC6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CB14-3617-4DA6-B898-EA9A342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C4C-1FC2-4419-8794-230CE2A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F7E4-A385-42FF-9573-1B8D98B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7D7-EC1E-4627-BB1E-E4DCA86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1703-1A8A-4B5F-9372-0F372D7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1155-93BC-4CEF-9997-DC7162D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C8E-B473-4F8C-8478-DCF57D2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7C2A-033A-4790-821D-1BC0270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B20-F39B-4324-9E96-1F221C2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FB6-5E97-4E89-87D5-A822344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1BB-3594-4D27-AB1D-F0885554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965-FCDA-4679-A9EC-263BEAD8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C65-E59B-45B9-81B3-A35C3D0A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FAF-486F-4322-8E7A-44E8E39E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07A-E773-4757-96F6-FF621B7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82B-6375-462A-95B3-3EB985E5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AA7-723D-42B5-8227-1880A58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755-AF0C-4F11-AF32-8DAE6FD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450-EFB1-4C89-ABF2-E9B9B5D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910-EC80-4A95-AFA1-8DB289B1BD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1ED-A8CE-4797-BF41-D7E5C37FD16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java.sun.com/webservices/docs/ea2/tutorial/index.html" TargetMode="External"/><Relationship Id="rId2" Type="http://schemas.openxmlformats.org/officeDocument/2006/relationships/hyperlink" Target="http://java.sun.com/webservices/docs/ea2/tutorial/index.html" TargetMode="External"/><Relationship Id="rId3" Type="http://schemas.openxmlformats.org/officeDocument/2006/relationships/hyperlink" Target="http://java.sun.com/webservices/docs/ea2/tutorial/index.html" TargetMode="External"/><Relationship Id="rId4" Type="http://schemas.openxmlformats.org/officeDocument/2006/relationships/hyperlink" Target="http://java.sun.com/webservices/docs/ea2/tutorial/index.html" TargetMode="External"/><Relationship Id="rId5" Type="http://schemas.openxmlformats.org/officeDocument/2006/relationships/hyperlink" Target="http://java.sun.com/webservices/docs/ea2/tutorial/index.html" TargetMode="External"/><Relationship Id="rId6" Type="http://schemas.openxmlformats.org/officeDocument/2006/relationships/hyperlink" Target="http://java.sun.com/webservices/docs/ea2/tutorial/index.html" TargetMode="External"/><Relationship Id="rId7" Type="http://schemas.openxmlformats.org/officeDocument/2006/relationships/hyperlink" Target="http://java.sun.com/webservices/docs/ea2/tutorial/index.html" TargetMode="External"/><Relationship Id="rId8" Type="http://schemas.openxmlformats.org/officeDocument/2006/relationships/hyperlink" Target="http://java.sun.com/webservices/docs/ea2/tutorial/index.html" TargetMode="External"/><Relationship Id="rId9" Type="http://schemas.openxmlformats.org/officeDocument/2006/relationships/hyperlink" Target="http://java.sun.com/webservices/docs/ea2/tutorial/index.html" TargetMode="External"/><Relationship Id="rId10" Type="http://schemas.openxmlformats.org/officeDocument/2006/relationships/hyperlink" Target="http://java.sun.com/webservices/docs/ea2/tutorial/index.html" TargetMode="External"/><Relationship Id="rId11" Type="http://schemas.openxmlformats.org/officeDocument/2006/relationships/hyperlink" Target="http://java.sun.com/webservices/docs/ea2/tutorial/index.html" TargetMode="External"/><Relationship Id="rId12" Type="http://schemas.openxmlformats.org/officeDocument/2006/relationships/hyperlink" Target="http://java.sun.com/webservices/docs/ea2/tutorial/index.html" TargetMode="External"/><Relationship Id="rId13" Type="http://schemas.openxmlformats.org/officeDocument/2006/relationships/hyperlink" Target="http://java.sun.com/webservices/docs/ea2/tutorial/index.html" TargetMode="External"/><Relationship Id="rId14" Type="http://schemas.openxmlformats.org/officeDocument/2006/relationships/hyperlink" Target="http://java.sun.com/webservices/docs/ea2/tutorial/index.html" TargetMode="External"/><Relationship Id="rId15" Type="http://schemas.openxmlformats.org/officeDocument/2006/relationships/hyperlink" Target="http://java.sun.com/webservices/docs/ea2/tutorial/index.html" TargetMode="External"/><Relationship Id="rId16" Type="http://schemas.openxmlformats.org/officeDocument/2006/relationships/hyperlink" Target="http://java.sun.com/webservices/docs/ea2/tutorial/index.html" TargetMode="External"/><Relationship Id="rId17" Type="http://schemas.openxmlformats.org/officeDocument/2006/relationships/hyperlink" Target="http://www6.software.ibm.com/developerworks/education/wsbasics/index.html" TargetMode="External"/><Relationship Id="rId18" Type="http://schemas.openxmlformats.org/officeDocument/2006/relationships/hyperlink" Target="http://www6.software.ibm.com/developerworks/education/wsbasics/index.html" TargetMode="External"/><Relationship Id="rId19" Type="http://schemas.openxmlformats.org/officeDocument/2006/relationships/hyperlink" Target="http://www6.software.ibm.com/developerworks/education/wsbasics/index.html" TargetMode="External"/><Relationship Id="rId20" Type="http://schemas.openxmlformats.org/officeDocument/2006/relationships/hyperlink" Target="http://www6.software.ibm.com/developerworks/education/wsbasics/index.html" TargetMode="External"/><Relationship Id="rId21" Type="http://schemas.openxmlformats.org/officeDocument/2006/relationships/hyperlink" Target="http://www6.software.ibm.com/developerworks/education/wsbasics/index.html" TargetMode="External"/><Relationship Id="rId22" Type="http://schemas.openxmlformats.org/officeDocument/2006/relationships/hyperlink" Target="http://www6.software.ibm.com/developerworks/education/wsbasics/index.html" TargetMode="External"/><Relationship Id="rId23" Type="http://schemas.openxmlformats.org/officeDocument/2006/relationships/hyperlink" Target="http://www6.software.ibm.com/developerworks/education/wsbasics/index.html" TargetMode="External"/><Relationship Id="rId24" Type="http://schemas.openxmlformats.org/officeDocument/2006/relationships/hyperlink" Target="http://www6.software.ibm.com/developerworks/education/wsbasics/index.html" TargetMode="External"/><Relationship Id="rId25" Type="http://schemas.openxmlformats.org/officeDocument/2006/relationships/hyperlink" Target="http://www6.software.ibm.com/developerworks/education/wsbasics/index.html" TargetMode="External"/><Relationship Id="rId26" Type="http://schemas.openxmlformats.org/officeDocument/2006/relationships/hyperlink" Target="http://www6.software.ibm.com/developerworks/education/wsbasics/index.html" TargetMode="External"/><Relationship Id="rId27" Type="http://schemas.openxmlformats.org/officeDocument/2006/relationships/hyperlink" Target="http://www.oreillynet.com/lpt/a//webservices/2002/02/12/webservicefaqs.html" TargetMode="External"/><Relationship Id="rId28" Type="http://schemas.openxmlformats.org/officeDocument/2006/relationships/hyperlink" Target="http://www.oreillynet.com/lpt/a//webservices/2002/02/12/webservicefaqs.html" TargetMode="External"/><Relationship Id="rId29" Type="http://schemas.openxmlformats.org/officeDocument/2006/relationships/hyperlink" Target="http://www.oreillynet.com/lpt/a//webservices/2002/02/12/webservicefaqs.html" TargetMode="External"/><Relationship Id="rId30" Type="http://schemas.openxmlformats.org/officeDocument/2006/relationships/hyperlink" Target="http://www.oreillynet.com/lpt/a//webservices/2002/02/12/webservicefaqs.html" TargetMode="External"/><Relationship Id="rId31" Type="http://schemas.openxmlformats.org/officeDocument/2006/relationships/hyperlink" Target="http://www.oreillynet.com/lpt/a//webservices/2002/02/12/webservicefaqs.html" TargetMode="External"/><Relationship Id="rId32" Type="http://schemas.openxmlformats.org/officeDocument/2006/relationships/hyperlink" Target="http://www.oreillynet.com/lpt/a//webservices/2002/02/12/webservicefaqs.html" TargetMode="External"/><Relationship Id="rId33" Type="http://schemas.openxmlformats.org/officeDocument/2006/relationships/hyperlink" Target="http://www.oreillynet.com/lpt/a//webservices/2002/02/12/webservicefaqs.html" TargetMode="External"/><Relationship Id="rId34" Type="http://schemas.openxmlformats.org/officeDocument/2006/relationships/hyperlink" Target="http://www.oreillynet.com/lpt/a//webservices/2002/02/12/webservicefaqs.html" TargetMode="External"/><Relationship Id="rId35" Type="http://schemas.openxmlformats.org/officeDocument/2006/relationships/hyperlink" Target="http://www.oreillynet.com/lpt/a//webservices/2002/02/12/webservicefaqs.html" TargetMode="External"/><Relationship Id="rId36" Type="http://schemas.openxmlformats.org/officeDocument/2006/relationships/hyperlink" Target="http://www.oreillynet.com/lpt/a//webservices/2002/02/12/webservicefaqs.html" TargetMode="External"/><Relationship Id="rId37" Type="http://schemas.openxmlformats.org/officeDocument/2006/relationships/hyperlink" Target="http://www.oreillynet.com/lpt/a//webservices/2002/02/12/webservicefaqs.html" TargetMode="External"/><Relationship Id="rId38" Type="http://schemas.openxmlformats.org/officeDocument/2006/relationships/hyperlink" Target="http://www.oreillynet.com/lpt/a//webservices/2002/02/12/webservicefaqs.html" TargetMode="External"/><Relationship Id="rId39" Type="http://schemas.openxmlformats.org/officeDocument/2006/relationships/hyperlink" Target="http://www.oreillynet.com/lpt/a//webservices/2002/02/12/webservicefaqs.html" TargetMode="External"/><Relationship Id="rId40" Type="http://schemas.openxmlformats.org/officeDocument/2006/relationships/hyperlink" Target="http://www.oreillynet.com/lpt/a//webservices/2002/02/12/webservicefaqs.html" TargetMode="External"/><Relationship Id="rId41" Type="http://schemas.openxmlformats.org/officeDocument/2006/relationships/hyperlink" Target="http://www.w3.org/TR/wsdl" TargetMode="External"/><Relationship Id="rId42" Type="http://schemas.openxmlformats.org/officeDocument/2006/relationships/hyperlink" Target="http://www.w3.org/TR/wsdl" TargetMode="External"/><Relationship Id="rId43" Type="http://schemas.openxmlformats.org/officeDocument/2006/relationships/hyperlink" Target="http://www.w3.org/TR/soap12-part1/" TargetMode="External"/><Relationship Id="rId44" Type="http://schemas.openxmlformats.org/officeDocument/2006/relationships/hyperlink" Target="http://sms.jfiok.org/webservices/" TargetMode="External"/><Relationship Id="rId4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mo.alphaworks.ibm.com/browser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100" spc="-1" strike="noStrike">
                <a:solidFill>
                  <a:srgbClr val="c4c3aa"/>
                </a:solidFill>
                <a:latin typeface="Arial"/>
              </a:rPr>
              <a:t>Web Service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prowadze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(Andrzej Chwedoruk, kwiecień 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Na czym bazują Web Service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transportu usług min.: HTTP, FTP, SMTP a także np. BE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09480" y="2971800"/>
          <a:ext cx="8077320" cy="3124080"/>
        </p:xfrm>
        <a:graphic>
          <a:graphicData uri="http://schemas.openxmlformats.org/drawingml/2006/table">
            <a:tbl>
              <a:tblPr/>
              <a:tblGrid>
                <a:gridCol w="1614600"/>
                <a:gridCol w="1616040"/>
                <a:gridCol w="1616040"/>
                <a:gridCol w="1616040"/>
                <a:gridCol w="16146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T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C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D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D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 = HTTP + XML + Remote Procedure C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 przez HTTP P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osta alternatywa dla 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pytani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?xml version="1.0" encoding="ISO-8859-1"?&gt; &lt;methodCall&gt; &lt;methodName&gt;weather.getWeather&lt;/methodName&gt; &lt;params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&gt;&lt;value&gt;10016&lt;/value&gt;&lt;/param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s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ethodCall&gt;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Odpowied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?xml version="1.0" encoding="ISO-8859-1"?&gt; &lt;methodRespons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s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value&gt;&lt;int&gt;65&lt;/int&gt;&lt;/valu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s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ethodRespons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 - Simple Object Access Protoc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przez HTTP,FTP,SMTP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truktura SOAP-komunikat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envelop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- opakowanie; jakaś tam przestrzeń naz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header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(opcjonalny) -- dodatkowe informacj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body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- zawiera parametry wywołania / odpowiedź / informacje o błędach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Ogólne zas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być kodowany przy użyciu XML-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Envelop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Hea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Bod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używać odpowiednich przestrzeni naz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NIE 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zawierać referencji do DT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NIE 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zawierać instrukcji procesora XML-a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env:Envelope xmlns:env="http://www.w3.org/2001/06/soap-envelope" env:encodingStyle="http://www.w3.org/2001/06/soap-encoding"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env:Body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m:GetPrice xmlns:m="Some-URI"&gt;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Item&gt;Soap&lt;/Item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:GetPrice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env:Body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env:Envelope&gt;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opisu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SDL – Web Services Description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pewnia specyfikacje interfejsu usługi czyli min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dostępnych funkcja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ypy danych wszystkich komunikatów XM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dostępnych protokoła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lokalizacji danej usługi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lokalizacji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DI - Universal Description, Discovery, and Integr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Dominujący standard lokalizacji usł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kłada się z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echnicznej specyfikacji tworzenia rozproszonych katalogów usł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 pełni funkcjonalnej implementacji dostarczanych specyfikac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lokalizacji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dział przechowywanych dany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hite Pages: ogólne dane każdej fi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Yellow Pages: ogólna klasyfikac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Green Pages: techniczne d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Czym są Web Services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a czym bazuj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otokoły i standardy 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komunikac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opisu usłu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lokalizacji usłu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ymagania dla 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Wymagania dla Web Servi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zpieczeństw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arządza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zawodność i wydajnoś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bilność i dostępnoś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pecyfikacja XML-RPC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xmlrpc.com/sp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SDE - Web Services Development Environment (prod. IBM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zykł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828800"/>
            <a:ext cx="84582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stock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 2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worzymy własny Web Service przy użyciu Visual Studio .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eb Service będzie zestaw 6 losowych numerów LOTTO pomiędzy 1 a 49, z liczbami zmieniającymi się przy każdym dostępie do usług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Architektura Web Servi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476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62120" y="762120"/>
          <a:ext cx="6781680" cy="63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678168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Lokalna sie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ć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znajduj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ą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ca si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ę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na brzegu sieci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476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33520" y="609480"/>
          <a:ext cx="7010280" cy="66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701028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Lokalna sie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ć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 pełnym dostępem do Internetu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Źródła informacj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un's Tutorial to Web Services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java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un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com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ebservice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doc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ea2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tutoria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index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BM WS tutorial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http://www6.software.ibm.com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developerwork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education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wsbasic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index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O'Reilly web service FAQ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www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oreillynet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com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lpt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/a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webservice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/2002/02/12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webservicefaq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1"/>
              </a:rPr>
              <a:t>http://www.w3.org/TR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2"/>
              </a:rPr>
              <a:t>wsd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3"/>
              </a:rPr>
              <a:t>http://www.w3.org/TR/soap12-part1/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4"/>
              </a:rPr>
              <a:t>http://sms.jfiok.org/webservices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Źródła informacj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odstawy Microsoft .NET” – David S. Platt, RM,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ASP .NET Kurs Podstawowy” – Dave Mercer, Edition 2000, 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ymagania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a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rchitektur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ę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ystemów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eb Services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” – Raport Huberta Trzew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Jak zacząć z Web Service’ami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Bezpieczeństw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rządza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iezawodność i wydajnoś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Mobilność i dostępnoś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zykł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rchitektura Web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Źródła informac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Definicj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usługa brana z sieci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zorientowane na usługi podejście projektanckie bazujące na idei budowania aplikacji poprzez odkrywanie i udost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nianie serwisów sieciowych oraz integracji aplikacji na zasadzie just-in-time."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ykorzystanie 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iezależność platformow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Rozwinięcie programowania obiektow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ubliczny interfej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niwersalne publikowanie i lokalizowa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Innowacje w Web Servic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łość komunikacji – 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iezależność od protokołu przesyłu da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łkowita standaryzac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e jak to wygląda w „praniu”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starczyciele usług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jestrują si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 pośredników (UDDI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ient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y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nika, kto mu da d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(SOAP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nik (broker) - lokalizuje mu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 podaje opis jej 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cia (WSDL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i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ł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za s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o dostarczyciela i korzysta z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i (SOA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le jak to wygląda w „praniu” ? cd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y  proste i nie tylko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demo.alphaworks.ibm.com/browser/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min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erwis pogodow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łasny mini-portal informacyj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Na czym bazują Web Service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komunikacji XML: XML-RPC, 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opisu usług: WSD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lokalizacji usług: UD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48:38Z</dcterms:created>
  <dc:creator>SzuS</dc:creator>
  <dc:description/>
  <dc:language>en-US</dc:language>
  <cp:lastModifiedBy>andre</cp:lastModifiedBy>
  <dcterms:modified xsi:type="dcterms:W3CDTF">2005-04-14T20:19:18Z</dcterms:modified>
  <cp:revision>34</cp:revision>
  <dc:subject/>
  <dc:title>Web Services</dc:title>
</cp:coreProperties>
</file>