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63640" indent="-2872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528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7280" indent="-2160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2.com/cgi/wiki?RefactoringLanguage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 to jest refaktoryzacja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aktoryzacja, to zmiana kodu programu, jednak z zachowaniem integralności jego działania.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k w matematyce - mając liczbę 6432 można ja reprezentować jako 32 * 3 * 67. Refaktoryzując ja do 8 * 12 * 67 otrzymamy dokładnie ten sam produkt (6432) ale o innej strukturze. 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39440" y="2101680"/>
            <a:ext cx="328932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extract metho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8" name=""/>
          <p:cNvSpPr/>
          <p:nvPr/>
        </p:nvSpPr>
        <p:spPr>
          <a:xfrm>
            <a:off x="739800" y="3348000"/>
            <a:ext cx="30621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lin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800" y="2743200"/>
            <a:ext cx="36561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compos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39440" y="6285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1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6776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400212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remove assignments to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464184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method with method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12720" y="1933560"/>
            <a:ext cx="8124840" cy="2684520"/>
          </a:xfrm>
          <a:prstGeom prst="roundRect">
            <a:avLst>
              <a:gd name="adj" fmla="val 56"/>
            </a:avLst>
          </a:prstGeom>
          <a:solidFill>
            <a:srgbClr val="ff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5320" y="2146320"/>
            <a:ext cx="776160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14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mając długą metodę używającą lokalnych zmiennych tak, że nie można zastosować extract method, tworzymy obiekt metody: lokalne zmienne stają się polami obiektu, zaś treść metody można rozłożyć na mniejsze metody wewnątrz samego obi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280" y="5203800"/>
            <a:ext cx="6754680" cy="7920"/>
          </a:xfrm>
          <a:custGeom>
            <a:avLst/>
            <a:gdLst/>
            <a:ahLst/>
            <a:rect l="l" t="t" r="r" b="b"/>
            <a:pathLst>
              <a:path w="18763" h="20">
                <a:moveTo>
                  <a:pt x="18762" y="0"/>
                </a:moveTo>
                <a:cubicBezTo>
                  <a:pt x="16366" y="0"/>
                  <a:pt x="0" y="19"/>
                  <a:pt x="432" y="19"/>
                </a:cubicBezTo>
                <a:lnTo>
                  <a:pt x="432" y="1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8480" y="4618080"/>
            <a:ext cx="3240" cy="592200"/>
          </a:xfrm>
          <a:custGeom>
            <a:avLst/>
            <a:gdLst/>
            <a:ahLst/>
            <a:rect l="l" t="t" r="r" b="b"/>
            <a:pathLst>
              <a:path w="11" h="1644">
                <a:moveTo>
                  <a:pt x="0" y="0"/>
                </a:moveTo>
                <a:cubicBezTo>
                  <a:pt x="0" y="1500"/>
                  <a:pt x="10" y="462"/>
                  <a:pt x="0" y="1523"/>
                </a:cubicBezTo>
                <a:lnTo>
                  <a:pt x="0" y="164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68840" y="5364360"/>
            <a:ext cx="5261040" cy="2025000"/>
          </a:xfrm>
          <a:prstGeom prst="rect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class Order</a:t>
            </a:r>
            <a:r>
              <a:rPr b="0" lang="en-GB" sz="20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double pric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double primaryBasePri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double secondaryBasePri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double tertiaryBasePri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GB" sz="2000" spc="-1" strike="noStrike">
                <a:solidFill>
                  <a:srgbClr val="808080"/>
                </a:solidFill>
                <a:latin typeface="Lucida Console"/>
              </a:rPr>
              <a:t>// long comput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Lucida Console"/>
              </a:rPr>
              <a:t>      </a:t>
            </a:r>
            <a:r>
              <a:rPr b="0" lang="en-GB" sz="20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39440" y="2101680"/>
            <a:ext cx="328932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extract metho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6" name=""/>
          <p:cNvSpPr/>
          <p:nvPr/>
        </p:nvSpPr>
        <p:spPr>
          <a:xfrm>
            <a:off x="739800" y="3348000"/>
            <a:ext cx="30621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lin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2743200"/>
            <a:ext cx="36561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compos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39440" y="6285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9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6776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9800" y="400212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remove assignments to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800" y="464184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replace method with method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800" y="524988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6024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6400" y="5762520"/>
            <a:ext cx="2982960" cy="1800"/>
          </a:xfrm>
          <a:custGeom>
            <a:avLst/>
            <a:gdLst/>
            <a:ahLst/>
            <a:rect l="l" t="t" r="r" b="b"/>
            <a:pathLst>
              <a:path w="8287" h="1">
                <a:moveTo>
                  <a:pt x="8286" y="0"/>
                </a:moveTo>
                <a:cubicBezTo>
                  <a:pt x="5890" y="0"/>
                  <a:pt x="0" y="0"/>
                  <a:pt x="432" y="0"/>
                </a:cubicBezTo>
                <a:lnTo>
                  <a:pt x="4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03680" y="1494000"/>
            <a:ext cx="5710320" cy="5851440"/>
          </a:xfrm>
          <a:custGeom>
            <a:avLst/>
            <a:gdLst>
              <a:gd name="textAreaLeft" fmla="*/ 360 w 5710320"/>
              <a:gd name="textAreaRight" fmla="*/ 5709960 w 5710320"/>
              <a:gd name="textAreaTop" fmla="*/ 360 h 5851440"/>
              <a:gd name="textAreaBottom" fmla="*/ 5851080 h 5851440"/>
            </a:gdLst>
            <a:ahLst/>
            <a:rect l="textAreaLeft" t="textAreaTop" r="textAreaRight" b="textAreaBottom"/>
            <a:pathLst>
              <a:path w="21600" h="22134">
                <a:moveTo>
                  <a:pt x="6" y="0"/>
                </a:moveTo>
                <a:arcTo wR="6" hR="6" stAng="16200000" swAng="-5400000"/>
                <a:lnTo>
                  <a:pt x="0" y="22128"/>
                </a:lnTo>
                <a:arcTo wR="6" hR="6" stAng="10800000" swAng="-5400000"/>
                <a:lnTo>
                  <a:pt x="21594" y="22134"/>
                </a:lnTo>
                <a:arcTo wR="6" hR="6" stAng="5400000" swAng="-5400000"/>
                <a:lnTo>
                  <a:pt x="21600" y="6"/>
                </a:lnTo>
                <a:arcTo wR="6" hR="6" stAng="0" swAng="-5400000"/>
                <a:close/>
              </a:path>
            </a:pathLst>
          </a:custGeom>
          <a:solidFill>
            <a:srgbClr val="ff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30760" y="1662120"/>
            <a:ext cx="554508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14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o ile metoda bardziej używa innej klasy, niż tej w której jest zdefiniowana, n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View::are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return </a:t>
            </a:r>
            <a:r>
              <a:rPr b="0" lang="en-GB" sz="2000" spc="-1" strike="noStrike">
                <a:solidFill>
                  <a:srgbClr val="ff0000"/>
                </a:solidFill>
                <a:latin typeface="Lucida Console"/>
                <a:ea typeface="msgothic"/>
              </a:rPr>
              <a:t>(foo.bottom – foo.top)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Console"/>
                <a:ea typeface="msgothic"/>
              </a:rPr>
              <a:t>          </a:t>
            </a:r>
            <a:r>
              <a:rPr b="0" lang="en-GB" sz="2000" spc="-1" strike="noStrike">
                <a:solidFill>
                  <a:srgbClr val="ff0000"/>
                </a:solidFill>
                <a:latin typeface="Lucida Console"/>
                <a:ea typeface="msgothic"/>
              </a:rPr>
              <a:t>(foo.right – foo.left)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zmieniamy 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Rectangle::are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return (bottom - top)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(right - lef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void View::cos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return foo.are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  <a:ea typeface="msgothic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3" name=""/>
          <p:cNvSpPr/>
          <p:nvPr/>
        </p:nvSpPr>
        <p:spPr>
          <a:xfrm>
            <a:off x="960480" y="2611440"/>
            <a:ext cx="4014720" cy="1440"/>
          </a:xfrm>
          <a:custGeom>
            <a:avLst/>
            <a:gdLst/>
            <a:ahLst/>
            <a:rect l="l" t="t" r="r" b="b"/>
            <a:pathLst>
              <a:path w="11154" h="1">
                <a:moveTo>
                  <a:pt x="11153" y="0"/>
                </a:moveTo>
                <a:lnTo>
                  <a:pt x="0" y="0"/>
                </a:lnTo>
                <a:lnTo>
                  <a:pt x="393" y="0"/>
                </a:lnTo>
                <a:lnTo>
                  <a:pt x="550" y="0"/>
                </a:lnTo>
                <a:lnTo>
                  <a:pt x="11153" y="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52576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fiel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5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6776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3040" y="1890720"/>
            <a:ext cx="2648160" cy="100980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97280" y="1976400"/>
            <a:ext cx="26211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14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analogicznie do mov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39440" y="2741760"/>
            <a:ext cx="2863800" cy="59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clas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5" name=""/>
          <p:cNvSpPr/>
          <p:nvPr/>
        </p:nvSpPr>
        <p:spPr>
          <a:xfrm>
            <a:off x="890640" y="3319560"/>
            <a:ext cx="4014720" cy="1440"/>
          </a:xfrm>
          <a:custGeom>
            <a:avLst/>
            <a:gdLst/>
            <a:ahLst/>
            <a:rect l="l" t="t" r="r" b="b"/>
            <a:pathLst>
              <a:path w="11154" h="1">
                <a:moveTo>
                  <a:pt x="11153" y="0"/>
                </a:moveTo>
                <a:lnTo>
                  <a:pt x="0" y="0"/>
                </a:lnTo>
                <a:lnTo>
                  <a:pt x="393" y="0"/>
                </a:lnTo>
                <a:lnTo>
                  <a:pt x="550" y="0"/>
                </a:lnTo>
                <a:lnTo>
                  <a:pt x="11153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9800" y="2101680"/>
            <a:ext cx="2525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mov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2438280"/>
            <a:ext cx="5276880" cy="1400400"/>
          </a:xfrm>
          <a:prstGeom prst="roundRect">
            <a:avLst>
              <a:gd name="adj" fmla="val 111"/>
            </a:avLst>
          </a:prstGeom>
          <a:solidFill>
            <a:srgbClr val="ff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97280" y="2546280"/>
            <a:ext cx="5122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14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jeśli klasa robi dwie rzeczy, które swobodnie mogłyby być robione przez dwie kla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5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6776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39800" y="2101680"/>
            <a:ext cx="252576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move fiel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8" name=""/>
          <p:cNvSpPr/>
          <p:nvPr/>
        </p:nvSpPr>
        <p:spPr>
          <a:xfrm>
            <a:off x="739800" y="3348000"/>
            <a:ext cx="26100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lin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800" y="2741760"/>
            <a:ext cx="28638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extrac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6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6776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39800" y="3347640"/>
            <a:ext cx="2610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line clas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9" name=""/>
          <p:cNvSpPr/>
          <p:nvPr/>
        </p:nvSpPr>
        <p:spPr>
          <a:xfrm>
            <a:off x="739800" y="4002120"/>
            <a:ext cx="29923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de del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9800" y="2101680"/>
            <a:ext cx="2525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mov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9800" y="2743200"/>
            <a:ext cx="28638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extrac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739440" y="6285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8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6776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76320" y="4508640"/>
            <a:ext cx="4014720" cy="1440"/>
          </a:xfrm>
          <a:custGeom>
            <a:avLst/>
            <a:gdLst/>
            <a:ahLst/>
            <a:rect l="l" t="t" r="r" b="b"/>
            <a:pathLst>
              <a:path w="11154" h="1">
                <a:moveTo>
                  <a:pt x="11153" y="0"/>
                </a:moveTo>
                <a:lnTo>
                  <a:pt x="0" y="0"/>
                </a:lnTo>
                <a:lnTo>
                  <a:pt x="393" y="0"/>
                </a:lnTo>
                <a:lnTo>
                  <a:pt x="550" y="0"/>
                </a:lnTo>
                <a:lnTo>
                  <a:pt x="1115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44880" y="2603520"/>
            <a:ext cx="4042080" cy="2222640"/>
          </a:xfrm>
          <a:prstGeom prst="roundRect">
            <a:avLst>
              <a:gd name="adj" fmla="val 69"/>
            </a:avLst>
          </a:prstGeom>
          <a:solidFill>
            <a:srgbClr val="ff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4920" y="2755800"/>
            <a:ext cx="388764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14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tworzenie (klasy/metody) pośredniczącej przy wołaniach metod innej kla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74880" y="5181480"/>
            <a:ext cx="4014720" cy="1800"/>
          </a:xfrm>
          <a:custGeom>
            <a:avLst/>
            <a:gdLst/>
            <a:ahLst/>
            <a:rect l="l" t="t" r="r" b="b"/>
            <a:pathLst>
              <a:path w="11154" h="1">
                <a:moveTo>
                  <a:pt x="11153" y="0"/>
                </a:moveTo>
                <a:lnTo>
                  <a:pt x="0" y="0"/>
                </a:lnTo>
                <a:lnTo>
                  <a:pt x="393" y="0"/>
                </a:lnTo>
                <a:lnTo>
                  <a:pt x="550" y="0"/>
                </a:lnTo>
                <a:lnTo>
                  <a:pt x="1115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39800" y="3347640"/>
            <a:ext cx="2610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line clas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25" name=""/>
          <p:cNvSpPr/>
          <p:nvPr/>
        </p:nvSpPr>
        <p:spPr>
          <a:xfrm>
            <a:off x="739800" y="4002120"/>
            <a:ext cx="29923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hide del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800" y="4641840"/>
            <a:ext cx="40942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middle 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4880" y="4444920"/>
            <a:ext cx="4042080" cy="1054080"/>
          </a:xfrm>
          <a:prstGeom prst="roundRect">
            <a:avLst>
              <a:gd name="adj" fmla="val 148"/>
            </a:avLst>
          </a:prstGeom>
          <a:solidFill>
            <a:srgbClr val="ff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84920" y="4552920"/>
            <a:ext cx="38876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14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usunięcie pośredników przy wołaniach met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9800" y="2101680"/>
            <a:ext cx="2525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mov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800" y="2743200"/>
            <a:ext cx="28638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extrac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39440" y="6285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7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6776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39440" y="4641480"/>
            <a:ext cx="40942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remove middle ma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0" name=""/>
          <p:cNvSpPr/>
          <p:nvPr/>
        </p:nvSpPr>
        <p:spPr>
          <a:xfrm>
            <a:off x="739800" y="5283360"/>
            <a:ext cx="5027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e foreig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9800" y="3348000"/>
            <a:ext cx="26100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lin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800" y="4002120"/>
            <a:ext cx="29923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hide del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9800" y="2101680"/>
            <a:ext cx="2525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mov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9800" y="2743200"/>
            <a:ext cx="28638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extrac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739440" y="6285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1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6776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70120" y="1230120"/>
            <a:ext cx="7247160" cy="4010040"/>
          </a:xfrm>
          <a:prstGeom prst="rect">
            <a:avLst/>
          </a:prstGeom>
          <a:solidFill>
            <a:srgbClr val="ff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Date newStart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new Date( previousEnd.getYear(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reviousEnd.getMonth(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reviousEnd.getDate() + 1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jdzie 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Date newStart = nextDay(previousEnd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rivate static Date nextDay( Date arg 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return new Date( arg.getYear(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arg.getMonth(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arg.getDate() + 1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060560" y="6437160"/>
            <a:ext cx="4778280" cy="1800"/>
          </a:xfrm>
          <a:custGeom>
            <a:avLst/>
            <a:gdLst/>
            <a:ahLst/>
            <a:rect l="l" t="t" r="r" b="b"/>
            <a:pathLst>
              <a:path w="13275" h="1">
                <a:moveTo>
                  <a:pt x="13274" y="0"/>
                </a:moveTo>
                <a:lnTo>
                  <a:pt x="0" y="0"/>
                </a:lnTo>
                <a:lnTo>
                  <a:pt x="393" y="0"/>
                </a:lnTo>
                <a:lnTo>
                  <a:pt x="550" y="0"/>
                </a:lnTo>
                <a:lnTo>
                  <a:pt x="1327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739440" y="4641480"/>
            <a:ext cx="40942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remove middle ma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6" name=""/>
          <p:cNvSpPr/>
          <p:nvPr/>
        </p:nvSpPr>
        <p:spPr>
          <a:xfrm>
            <a:off x="739800" y="5283360"/>
            <a:ext cx="5027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troduce foreig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9800" y="5923080"/>
            <a:ext cx="5070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e local ex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7240" y="5546880"/>
            <a:ext cx="4032360" cy="136656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48480" y="5621400"/>
            <a:ext cx="3906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14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wprowadzenie np. podklasy w celu rozszerzenia interfej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9800" y="3348000"/>
            <a:ext cx="26100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lin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9800" y="4002120"/>
            <a:ext cx="29923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hide del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800" y="2101680"/>
            <a:ext cx="2525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mov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9800" y="2743200"/>
            <a:ext cx="28638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extrac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739440" y="6285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0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776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kod wewnątrz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52576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line temp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4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9292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41240" y="3348000"/>
            <a:ext cx="8967960" cy="3901320"/>
            <a:chOff x="741240" y="3348000"/>
            <a:chExt cx="8967960" cy="3901320"/>
          </a:xfrm>
        </p:grpSpPr>
        <p:sp>
          <p:nvSpPr>
            <p:cNvPr id="282" name=""/>
            <p:cNvSpPr/>
            <p:nvPr/>
          </p:nvSpPr>
          <p:spPr>
            <a:xfrm>
              <a:off x="2228760" y="4068000"/>
              <a:ext cx="7480440" cy="3181320"/>
            </a:xfrm>
            <a:prstGeom prst="rect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if( </a:t>
              </a:r>
              <a:r>
                <a:rPr b="0" lang="en-GB" sz="2200" spc="-1" strike="noStrike">
                  <a:solidFill>
                    <a:srgbClr val="ff0000"/>
                  </a:solidFill>
                  <a:latin typeface="Lucida Console"/>
                </a:rPr>
                <a:t>(x==0) || ((y&lt;17) &amp;&amp; name == null)</a:t>
              </a: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 ) {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   </a:t>
              </a:r>
              <a:r>
                <a:rPr b="0" lang="en-GB" sz="2200" spc="-1" strike="noStrike">
                  <a:solidFill>
                    <a:srgbClr val="808080"/>
                  </a:solidFill>
                  <a:latin typeface="Lucida Console"/>
                </a:rPr>
                <a:t>..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przejdzie na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final boolean outOfActiveAreal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GB" sz="2200" spc="-1" strike="noStrike">
                  <a:solidFill>
                    <a:srgbClr val="ff0000"/>
                  </a:solidFill>
                  <a:latin typeface="Lucida Console"/>
                </a:rPr>
                <a:t>(x==0) || ((y&lt;17) &amp;&amp; name == null)</a:t>
              </a: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if( outOfActiveAreal ) {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   </a:t>
              </a:r>
              <a:r>
                <a:rPr b="0" lang="en-GB" sz="2200" spc="-1" strike="noStrike">
                  <a:solidFill>
                    <a:srgbClr val="808080"/>
                  </a:solidFill>
                  <a:latin typeface="Lucida Console"/>
                </a:rPr>
                <a:t>..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1240" y="3348000"/>
              <a:ext cx="588960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31640" indent="-323640">
                <a:lnSpc>
                  <a:spcPct val="93000"/>
                </a:lnSpc>
                <a:spcAft>
                  <a:spcPts val="1426"/>
                </a:spcAft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introduce explaining variab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41240" y="2741760"/>
            <a:ext cx="5070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temp with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o czego służy?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łatwia ona budowę i pielęgnację oprogramowania, umożliwiając utrzymanie systemu komputerowego w stanie pozwalającym na łatwą rozbudowę.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za tym refaktoryzacja jest znacznie tańsza niż przepisywanie kodu od nowa 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7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kod wewnątrz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52576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line temp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7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9292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800" y="3348000"/>
            <a:ext cx="5889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e explaining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800" y="2741760"/>
            <a:ext cx="5070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temp with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9800" y="4002120"/>
            <a:ext cx="50990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lit temporary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05080" y="4435560"/>
            <a:ext cx="7589880" cy="3043080"/>
          </a:xfrm>
          <a:prstGeom prst="rect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double temp = 2 * (_height + _wid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System.out.println( </a:t>
            </a:r>
            <a:r>
              <a:rPr b="0" lang="en-GB" sz="2000" spc="-1" strike="noStrike">
                <a:solidFill>
                  <a:srgbClr val="ff0000"/>
                </a:solidFill>
                <a:latin typeface="Lucida Console"/>
              </a:rPr>
              <a:t>temp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Console"/>
              </a:rPr>
              <a:t>temp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= _height * _wid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System.out.println( </a:t>
            </a:r>
            <a:r>
              <a:rPr b="0" lang="en-GB" sz="2000" spc="-1" strike="noStrike">
                <a:solidFill>
                  <a:srgbClr val="ff0000"/>
                </a:solidFill>
                <a:latin typeface="Lucida Console"/>
              </a:rPr>
              <a:t>temp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epiej tak: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final double </a:t>
            </a:r>
            <a:r>
              <a:rPr b="0" lang="en-GB" sz="2000" spc="-1" strike="noStrike">
                <a:solidFill>
                  <a:srgbClr val="ff0000"/>
                </a:solidFill>
                <a:latin typeface="Lucida Console"/>
              </a:rPr>
              <a:t>perimeter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= 2 * (_height + _wid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System.out.println( </a:t>
            </a:r>
            <a:r>
              <a:rPr b="0" lang="en-GB" sz="2000" spc="-1" strike="noStrike">
                <a:solidFill>
                  <a:srgbClr val="ff0000"/>
                </a:solidFill>
                <a:latin typeface="Lucida Console"/>
              </a:rPr>
              <a:t>perimeter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final double </a:t>
            </a:r>
            <a:r>
              <a:rPr b="0" lang="en-GB" sz="2000" spc="-1" strike="noStrike">
                <a:solidFill>
                  <a:srgbClr val="ff0000"/>
                </a:solidFill>
                <a:latin typeface="Lucida Console"/>
              </a:rPr>
              <a:t>area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= _height * _wid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System.out.println( </a:t>
            </a:r>
            <a:r>
              <a:rPr b="0" lang="en-GB" sz="2000" spc="-1" strike="noStrike">
                <a:solidFill>
                  <a:srgbClr val="ff0000"/>
                </a:solidFill>
                <a:latin typeface="Lucida Console"/>
              </a:rPr>
              <a:t>area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kod wewnątrz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52576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line temp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0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9292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9800" y="3348000"/>
            <a:ext cx="5889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e explaining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2741760"/>
            <a:ext cx="5070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temp with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9800" y="4002120"/>
            <a:ext cx="50990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lit temporary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9800" y="4641840"/>
            <a:ext cx="40942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itute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9800" y="5283360"/>
            <a:ext cx="5027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actor introduce </a:t>
            </a: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9800" y="5923080"/>
            <a:ext cx="5070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actor eliminate </a:t>
            </a: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kod wewnątrz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actor match loop to usag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5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9292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9800" y="3348000"/>
            <a:ext cx="5889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actor default or 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9800" y="2741760"/>
            <a:ext cx="7894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actor negat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reverse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9800" y="4002120"/>
            <a:ext cx="50990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actor renes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rganizacja danych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45960" y="1873080"/>
            <a:ext cx="4384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f encapsulate field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7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5960" y="2246400"/>
            <a:ext cx="4464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 data value with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7760" y="2620800"/>
            <a:ext cx="4464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value to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7760" y="2997360"/>
            <a:ext cx="4464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reference to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7760" y="3373560"/>
            <a:ext cx="4464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 array with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7760" y="3774960"/>
            <a:ext cx="4464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plicate observ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00" y="4138560"/>
            <a:ext cx="4464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unidirectional association to b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200" y="4836960"/>
            <a:ext cx="4464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bidirectional association to un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9200" y="5548320"/>
            <a:ext cx="4464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 magic number with symbolic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1000" y="6273720"/>
            <a:ext cx="4464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apsulat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0360" y="6637320"/>
            <a:ext cx="4384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apsulate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42000" y="2232000"/>
            <a:ext cx="5238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 type code with (sub)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42000" y="1871640"/>
            <a:ext cx="4464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 subclass with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42000" y="2608200"/>
            <a:ext cx="4464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ompose con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42000" y="2984400"/>
            <a:ext cx="5238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olidate conditional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43440" y="3373560"/>
            <a:ext cx="4464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olidate duplicate conditiona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43440" y="4071960"/>
            <a:ext cx="4464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 nested conditional with guard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43440" y="4757760"/>
            <a:ext cx="4464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 conditional with 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4880" y="5481720"/>
            <a:ext cx="4464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e null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0360" y="6999120"/>
            <a:ext cx="4384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ctor struct to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44880" y="5845320"/>
            <a:ext cx="4919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d to implem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44880" y="6207120"/>
            <a:ext cx="4919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havior to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46680" y="6570720"/>
            <a:ext cx="4919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 recorded history with event no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proszczenie wołania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39440" y="1966680"/>
            <a:ext cx="353052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name metho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7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84412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9800" y="3160800"/>
            <a:ext cx="5889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par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9800" y="2567160"/>
            <a:ext cx="5070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 par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9800" y="3787920"/>
            <a:ext cx="62244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parate query from mod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9800" y="4400640"/>
            <a:ext cx="52927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ameteriz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9800" y="5014800"/>
            <a:ext cx="87487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parameter with explicit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9800" y="5627520"/>
            <a:ext cx="5070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rve whol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1240" y="6203880"/>
            <a:ext cx="6526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parameter with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1240" y="6794640"/>
            <a:ext cx="57643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e parameter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proszczenie wołania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9440" y="1966680"/>
            <a:ext cx="545004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setting metho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4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84412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9800" y="3160800"/>
            <a:ext cx="82882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constructor with factory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800" y="2567160"/>
            <a:ext cx="5070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d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9800" y="3787920"/>
            <a:ext cx="62244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e down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800" y="4400640"/>
            <a:ext cx="68421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error code with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9800" y="5014800"/>
            <a:ext cx="87487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exception with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39800" y="5627520"/>
            <a:ext cx="5070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order para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1240" y="6203880"/>
            <a:ext cx="86425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actor parameters to member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1240" y="6794640"/>
            <a:ext cx="81043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actor scoped variable to par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ogólnienia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42520" y="1966680"/>
            <a:ext cx="8340840" cy="5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ll up / push down fiel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1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2880" y="3160800"/>
            <a:ext cx="5889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ll up constructor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2880" y="2567160"/>
            <a:ext cx="63165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ll up / push dow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2880" y="3787920"/>
            <a:ext cx="8537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subclass / super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2880" y="5014800"/>
            <a:ext cx="87487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pse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2880" y="5627520"/>
            <a:ext cx="50706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 templat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4680" y="6203880"/>
            <a:ext cx="93391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inheritance with delegation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and vice vers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4680" y="6794640"/>
            <a:ext cx="75517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actoring class to be polymorph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4680" y="4390920"/>
            <a:ext cx="85374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ta-refaktoring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42520" y="2128680"/>
            <a:ext cx="834084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code with data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and vice versa)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7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2880" y="2728800"/>
            <a:ext cx="63165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e code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uże refaktoryzacj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42520" y="2128680"/>
            <a:ext cx="834084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procedural design to object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16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2880" y="2728800"/>
            <a:ext cx="76564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parate domain from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4680" y="3346560"/>
            <a:ext cx="76564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faktoryzacja ,,innego” kodu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2520" y="2128680"/>
            <a:ext cx="834084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ert commen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6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2880" y="2728800"/>
            <a:ext cx="76564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comment with test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utomatyczna refaktoryzacja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 niektórych przypadkach możemy ręcznie zmienić kod.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 dużych programach niezbędna jest automatyzacja refaktoryzacji.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rdziej złożone refaktoryzacje można wykonać jako złożenie kilku prostszych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>
            <a:hlinkClick r:id="" action="ppaction://hlinkshowjump?jump=endshow"/>
          </p:cNvPr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400" y="32702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koniec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zęści pierwszej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Klasy refaktoryzacji prostych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2779200"/>
            <a:ext cx="860724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1" name=""/>
          <p:cNvSpPr/>
          <p:nvPr/>
        </p:nvSpPr>
        <p:spPr>
          <a:xfrm>
            <a:off x="739800" y="227484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cja k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800" y="331488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od wewnątrz met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800" y="378000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cja da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800" y="436896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roszczenie wołania met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800" y="495936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ępowanie z uogólnieni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800" y="554976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-refak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800" y="614052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że refaktoryzac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800" y="672948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aktoryzacje ,,innego” ko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776240"/>
            <a:ext cx="10080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Lucida Console"/>
                <a:hlinkClick r:id="rId1"/>
              </a:rPr>
              <a:t>http://c2.com/cgi/wiki?Refactoring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Lucida Console"/>
              </a:rPr>
              <a:t>http://www.refactoring.com/catalo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rganizacja klas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name clas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7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metho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5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6776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400" y="2597040"/>
            <a:ext cx="3152880" cy="1800"/>
          </a:xfrm>
          <a:custGeom>
            <a:avLst/>
            <a:gdLst/>
            <a:ahLst/>
            <a:rect l="l" t="t" r="r" b="b"/>
            <a:pathLst>
              <a:path w="8758" h="1">
                <a:moveTo>
                  <a:pt x="8757" y="0"/>
                </a:moveTo>
                <a:cubicBezTo>
                  <a:pt x="6361" y="0"/>
                  <a:pt x="0" y="0"/>
                  <a:pt x="432" y="0"/>
                </a:cubicBezTo>
                <a:lnTo>
                  <a:pt x="4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09960" y="1309680"/>
            <a:ext cx="6027840" cy="6148440"/>
          </a:xfrm>
          <a:custGeom>
            <a:avLst/>
            <a:gdLst>
              <a:gd name="textAreaLeft" fmla="*/ 360 w 6027840"/>
              <a:gd name="textAreaRight" fmla="*/ 6027480 w 6027840"/>
              <a:gd name="textAreaTop" fmla="*/ 360 h 6148440"/>
              <a:gd name="textAreaBottom" fmla="*/ 6148080 h 6148440"/>
            </a:gdLst>
            <a:ahLst/>
            <a:rect l="textAreaLeft" t="textAreaTop" r="textAreaRight" b="textAreaBottom"/>
            <a:pathLst>
              <a:path w="21600" h="22032">
                <a:moveTo>
                  <a:pt x="5" y="0"/>
                </a:moveTo>
                <a:arcTo wR="5" hR="5" stAng="16200000" swAng="-5400000"/>
                <a:lnTo>
                  <a:pt x="0" y="22027"/>
                </a:lnTo>
                <a:arcTo wR="5" hR="5" stAng="10800000" swAng="-5400000"/>
                <a:lnTo>
                  <a:pt x="21595" y="220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7040" y="1411200"/>
            <a:ext cx="5918040" cy="59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14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dzieli metodę jeśli jest ona za długa, robi więcej niż jedną rzecz lub miesza nisko- i wysokopoziomowe operacje, n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void C::cos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for(int i; i&lt;a.length()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a[i] = ra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wypisz(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zmieniamy 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void C::wylosuj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for(int i; i&lt;a.length()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a[i] = ra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void C::cos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wylosuj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wypisz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00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  <a:ea typeface="msgothic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39440" y="2101680"/>
            <a:ext cx="860724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extract metho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6" name=""/>
          <p:cNvSpPr/>
          <p:nvPr/>
        </p:nvSpPr>
        <p:spPr>
          <a:xfrm>
            <a:off x="739800" y="2741760"/>
            <a:ext cx="86072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2000" y="2060640"/>
            <a:ext cx="4164120" cy="183996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70640" y="2146320"/>
            <a:ext cx="4066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14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przeważnie tworzenie metod które tylko operują na innych metod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8040" y="3213000"/>
            <a:ext cx="4609800" cy="28800"/>
          </a:xfrm>
          <a:custGeom>
            <a:avLst/>
            <a:gdLst/>
            <a:ahLst/>
            <a:rect l="l" t="t" r="r" b="b"/>
            <a:pathLst>
              <a:path w="12805" h="80">
                <a:moveTo>
                  <a:pt x="12804" y="79"/>
                </a:moveTo>
                <a:cubicBezTo>
                  <a:pt x="12378" y="79"/>
                  <a:pt x="11953" y="79"/>
                  <a:pt x="11528" y="79"/>
                </a:cubicBezTo>
                <a:cubicBezTo>
                  <a:pt x="11090" y="79"/>
                  <a:pt x="10651" y="79"/>
                  <a:pt x="10213" y="79"/>
                </a:cubicBezTo>
                <a:cubicBezTo>
                  <a:pt x="9595" y="79"/>
                  <a:pt x="8974" y="79"/>
                  <a:pt x="8356" y="79"/>
                </a:cubicBezTo>
                <a:cubicBezTo>
                  <a:pt x="7660" y="79"/>
                  <a:pt x="6963" y="79"/>
                  <a:pt x="6267" y="79"/>
                </a:cubicBezTo>
                <a:cubicBezTo>
                  <a:pt x="5854" y="79"/>
                  <a:pt x="5440" y="79"/>
                  <a:pt x="5029" y="79"/>
                </a:cubicBezTo>
                <a:cubicBezTo>
                  <a:pt x="4525" y="79"/>
                  <a:pt x="4022" y="79"/>
                  <a:pt x="3520" y="79"/>
                </a:cubicBezTo>
                <a:cubicBezTo>
                  <a:pt x="3004" y="79"/>
                  <a:pt x="2487" y="79"/>
                  <a:pt x="1973" y="79"/>
                </a:cubicBezTo>
                <a:cubicBezTo>
                  <a:pt x="1469" y="79"/>
                  <a:pt x="967" y="79"/>
                  <a:pt x="464" y="79"/>
                </a:cubicBezTo>
                <a:lnTo>
                  <a:pt x="0" y="7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6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6776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39440" y="2101680"/>
            <a:ext cx="328932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extract metho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9" name=""/>
          <p:cNvSpPr/>
          <p:nvPr/>
        </p:nvSpPr>
        <p:spPr>
          <a:xfrm>
            <a:off x="739800" y="3348000"/>
            <a:ext cx="30621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lin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800" y="2741760"/>
            <a:ext cx="36561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compos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43520" y="1890720"/>
            <a:ext cx="4692600" cy="2160720"/>
          </a:xfrm>
          <a:prstGeom prst="roundRect">
            <a:avLst>
              <a:gd name="adj" fmla="val 69"/>
            </a:avLst>
          </a:prstGeom>
          <a:solidFill>
            <a:srgbClr val="ff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7760" y="1976400"/>
            <a:ext cx="460980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14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odwrotność extract method - wywołanie jakiejś metody zastępujemy kodem tej metody; w C/C++ mamy dyrektywę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  <a:ea typeface="msgothic"/>
              </a:rPr>
              <a:t>i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3640" y="3852720"/>
            <a:ext cx="4205160" cy="28800"/>
          </a:xfrm>
          <a:custGeom>
            <a:avLst/>
            <a:gdLst/>
            <a:ahLst/>
            <a:rect l="l" t="t" r="r" b="b"/>
            <a:pathLst>
              <a:path w="11683" h="80">
                <a:moveTo>
                  <a:pt x="10871" y="78"/>
                </a:moveTo>
                <a:cubicBezTo>
                  <a:pt x="10445" y="78"/>
                  <a:pt x="11682" y="78"/>
                  <a:pt x="11257" y="78"/>
                </a:cubicBezTo>
                <a:cubicBezTo>
                  <a:pt x="10819" y="78"/>
                  <a:pt x="10651" y="79"/>
                  <a:pt x="10213" y="79"/>
                </a:cubicBezTo>
                <a:cubicBezTo>
                  <a:pt x="9595" y="79"/>
                  <a:pt x="8974" y="79"/>
                  <a:pt x="8356" y="79"/>
                </a:cubicBezTo>
                <a:cubicBezTo>
                  <a:pt x="7660" y="79"/>
                  <a:pt x="6963" y="79"/>
                  <a:pt x="6267" y="79"/>
                </a:cubicBezTo>
                <a:cubicBezTo>
                  <a:pt x="5854" y="79"/>
                  <a:pt x="5440" y="79"/>
                  <a:pt x="5029" y="79"/>
                </a:cubicBezTo>
                <a:cubicBezTo>
                  <a:pt x="4525" y="79"/>
                  <a:pt x="4022" y="79"/>
                  <a:pt x="3520" y="79"/>
                </a:cubicBezTo>
                <a:cubicBezTo>
                  <a:pt x="3004" y="79"/>
                  <a:pt x="2487" y="79"/>
                  <a:pt x="1973" y="79"/>
                </a:cubicBezTo>
                <a:cubicBezTo>
                  <a:pt x="1469" y="79"/>
                  <a:pt x="967" y="79"/>
                  <a:pt x="464" y="79"/>
                </a:cubicBezTo>
                <a:lnTo>
                  <a:pt x="0" y="7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0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6776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39440" y="4001760"/>
            <a:ext cx="860724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assignments to parameter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3" name=""/>
          <p:cNvSpPr/>
          <p:nvPr/>
        </p:nvSpPr>
        <p:spPr>
          <a:xfrm>
            <a:off x="9147240" y="684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84600" y="81000"/>
            <a:ext cx="1027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o refaktory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800" y="2101680"/>
            <a:ext cx="32893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extrac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800" y="3348000"/>
            <a:ext cx="30621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lin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800" y="2743200"/>
            <a:ext cx="36561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compos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739440" y="6285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kładanie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2" name=""/>
          <p:cNvSpPr/>
          <p:nvPr/>
        </p:nvSpPr>
        <p:spPr>
          <a:xfrm>
            <a:off x="810360" y="574560"/>
            <a:ext cx="303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aktoryzacje pro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67760" y="1303200"/>
            <a:ext cx="628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3520" y="4800600"/>
            <a:ext cx="7315920" cy="24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int discount( int inputVal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if( inputVal &gt; 50 ) inputVal -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int discount( int inputVal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int result = inputV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if( inputVal &gt; 50 ) result -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  <a:ea typeface="msgothic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9240" y="4547520"/>
            <a:ext cx="2178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 przykł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echodzi 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9560" y="4483080"/>
            <a:ext cx="9207720" cy="2913120"/>
          </a:xfrm>
          <a:prstGeom prst="roundRect">
            <a:avLst>
              <a:gd name="adj" fmla="val 51"/>
            </a:avLst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am Mazur</cp:lastModifiedBy>
  <cp:revision>0</cp:revision>
  <dc:subject/>
  <dc:title/>
</cp:coreProperties>
</file>