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orland.com/jbuilder/pdf/jb2005_feature_matrix.pdf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947160"/>
            <a:ext cx="1008072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wolucja narzędzi do refaktoryza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56040" y="81000"/>
            <a:ext cx="2285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narzędzia do refaktoryzacji (Ja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9360" y="2405160"/>
            <a:ext cx="90374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szcze 4 lata temu rzadko które narzędzie obsługiwało więcej niż 15 rodzajów refaktoryz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9360" y="3646440"/>
            <a:ext cx="90374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treme programm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refaktoryzacja jako jedyny sposób aby utrzymać i rozwijać poprawne progra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9360" y="4888080"/>
            <a:ext cx="90374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iemal wszystkie wymienione narzędzia dedykowane są co najmniej platformom Windows, Linux i Ma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9360" y="6129360"/>
            <a:ext cx="90374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nacznie poprawił się interfejs i prostota obsługi procesu refaktoryz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694800"/>
            <a:ext cx="10080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jFactor for Visual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6040" y="81000"/>
            <a:ext cx="2285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narzędzia do refaktoryzacji (Ja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412280"/>
            <a:ext cx="1008072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http://www.instantiations.com/jfacto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60" y="512640"/>
            <a:ext cx="3098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zędzia komercyj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2360" y="1982880"/>
            <a:ext cx="90378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acuje tylko w Windowsi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tylko z IBM VisualAge od wersji 3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52360" y="3198960"/>
            <a:ext cx="9680760" cy="3543840"/>
            <a:chOff x="252360" y="3198960"/>
            <a:chExt cx="9680760" cy="3543840"/>
          </a:xfrm>
        </p:grpSpPr>
        <p:sp>
          <p:nvSpPr>
            <p:cNvPr id="156" name=""/>
            <p:cNvSpPr/>
            <p:nvPr/>
          </p:nvSpPr>
          <p:spPr>
            <a:xfrm>
              <a:off x="252360" y="3198960"/>
              <a:ext cx="9248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wspomagane refaktoryzacje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0400" y="3568680"/>
              <a:ext cx="9342720" cy="31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ethods: extract, rename, inline, pull up, push down, save delete, introduce foreig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fields: rename, pull up, push down, encapsul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tract superclass/interfa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name method arguments and local variab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troduce explaining vari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line te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place magic number with symbolic link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694800"/>
            <a:ext cx="10080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IntelliJ ID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040" y="81000"/>
            <a:ext cx="2285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narzędzia do refaktoryzacji (Ja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412280"/>
            <a:ext cx="1008072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http://www.jetbrains.com/idea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60" y="512640"/>
            <a:ext cx="3098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zędzia komercyj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" y="1752480"/>
            <a:ext cx="9248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spomagane refaktoryzac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1760" y="2122560"/>
            <a:ext cx="4700520" cy="54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6520" indent="-236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line constant, local variable,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ract 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ace method code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vert to instance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ming of packages, classes, methods, fields, method parameters and local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ving classes, packages; also moving static methods, fields or inn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ve inner class to upper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method signature (add/remove/reorder parameter, change return/parameter 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method 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14880" y="2122560"/>
            <a:ext cx="4700520" cy="54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0680" indent="-220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py/clon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ract method, interface,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e variable, field, constant,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interface wher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ll up / puch down class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ace inheritance with del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vert anonymous class to i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apsula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ace temp with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ace constructor with factory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94800"/>
            <a:ext cx="10080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JRefact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040" y="81000"/>
            <a:ext cx="2285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narzędzia do refaktoryzacji (Ja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12280"/>
            <a:ext cx="1008072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http://jrefactory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0" y="512640"/>
            <a:ext cx="279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zędzia darm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9760" y="2173320"/>
            <a:ext cx="887544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ko plugin pełnie wspomaga jEdit, a częściowo NetBeans, Jbuilder i Elix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9760" y="3508200"/>
            <a:ext cx="903744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 CVS dostępne częściowe wspomaganie dla innych IDE (Cafe, jDeveloper, jooda, kaw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9760" y="4843440"/>
            <a:ext cx="903744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ko samodzielna aplikac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opcja z GUI lub be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9760" y="6178680"/>
            <a:ext cx="903744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la JBuilder i Elixir można przełączać pomiędzy kodem źródłowym a diagramami U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694800"/>
            <a:ext cx="10080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JRefact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6040" y="81000"/>
            <a:ext cx="2285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narzędzia do refaktoryzacji (Ja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412280"/>
            <a:ext cx="1008072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http://jrefactory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0" y="512640"/>
            <a:ext cx="279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zędzia darm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9760" y="2173320"/>
            <a:ext cx="8875440" cy="45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spomagane refaktoryzacje pros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class between packages (repack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ll up / puch down field, method, abstract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name class, field, para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 abstract paren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 child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empty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interface,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94800"/>
            <a:ext cx="10080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TransMogrif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6040" y="81000"/>
            <a:ext cx="2285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narzędzia do refaktoryzacji (Ja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412280"/>
            <a:ext cx="1008072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http://transmogrify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0" y="512640"/>
            <a:ext cx="279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zędzia darm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6800" y="2027160"/>
            <a:ext cx="887580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stępne jako plugin wspomagający IDE Borland's JBuilder i Sun's Forte4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6800" y="3197160"/>
            <a:ext cx="90378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pisany w Ja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6800" y="3914640"/>
            <a:ext cx="9037800" cy="3210480"/>
            <a:chOff x="496800" y="3914640"/>
            <a:chExt cx="9037800" cy="3210480"/>
          </a:xfrm>
        </p:grpSpPr>
        <p:sp>
          <p:nvSpPr>
            <p:cNvPr id="80" name=""/>
            <p:cNvSpPr/>
            <p:nvPr/>
          </p:nvSpPr>
          <p:spPr>
            <a:xfrm>
              <a:off x="496800" y="3914640"/>
              <a:ext cx="903780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wspomagane refaktoryzacj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26920" y="4405320"/>
              <a:ext cx="8655120" cy="27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rename symbols (variable, method, class, interface...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extract metho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replace temp with quer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inline tem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pull up fiel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694800"/>
            <a:ext cx="10080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6040" y="81000"/>
            <a:ext cx="2285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narzędzia do refaktoryzacji (Ja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2280"/>
            <a:ext cx="1008072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http://www.eclipse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60" y="512640"/>
            <a:ext cx="279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zędzia darm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6800" y="2027160"/>
            <a:ext cx="91504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wersalne narzędzie - ,,potrafi wszystko i nic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6800" y="2751120"/>
            <a:ext cx="903780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dno z najlepszych dostępnych narzędzi do refaktoryz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96800" y="3828960"/>
            <a:ext cx="9037800" cy="3210480"/>
            <a:chOff x="496800" y="3828960"/>
            <a:chExt cx="9037800" cy="3210480"/>
          </a:xfrm>
        </p:grpSpPr>
        <p:sp>
          <p:nvSpPr>
            <p:cNvPr id="93" name=""/>
            <p:cNvSpPr/>
            <p:nvPr/>
          </p:nvSpPr>
          <p:spPr>
            <a:xfrm>
              <a:off x="496800" y="3828960"/>
              <a:ext cx="903780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wspomagane refaktoryzacj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6920" y="4319640"/>
              <a:ext cx="8655120" cy="27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zmiana nazw i ,,fizycznej” organizacji kodu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zmiana logicznej organizacji kodu na poziomie kl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zmiana kodu wewnątrz kl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kilka innych refaktoryzacji nie podchodzących pod żadną z tych gru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94800"/>
            <a:ext cx="10080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JavaRefactor (jEdi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6040" y="81000"/>
            <a:ext cx="2285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narzędzia do refaktoryzacji (Ja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12280"/>
            <a:ext cx="1008072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http://www.jedit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60" y="512640"/>
            <a:ext cx="279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zędzia darm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2360" y="1932120"/>
            <a:ext cx="90378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dit – edytor tekstowy, wspomaga ponad 80 języków program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52360" y="4344840"/>
            <a:ext cx="9150480" cy="3014280"/>
            <a:chOff x="252360" y="4344840"/>
            <a:chExt cx="9150480" cy="3014280"/>
          </a:xfrm>
        </p:grpSpPr>
        <p:sp>
          <p:nvSpPr>
            <p:cNvPr id="105" name=""/>
            <p:cNvSpPr/>
            <p:nvPr/>
          </p:nvSpPr>
          <p:spPr>
            <a:xfrm>
              <a:off x="252360" y="4344840"/>
              <a:ext cx="9150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JavaRefactor to taka wtyczk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2360" y="4886280"/>
              <a:ext cx="9037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wspomagane refaktoryzacje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2480" y="5375160"/>
              <a:ext cx="8655120" cy="19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zmiana nazw i “fizycznej” organizacji kodu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zmiana logicznej organizacji kodu na poziomie kl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zmiana kodu wewnątrz kl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kilka innych refaktoryzacji nie podchodzących pod żadną z tych gru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2360" y="2867040"/>
            <a:ext cx="9524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pisany w Javie, służy (m.in) do refaktoryzacji kodu Ja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2360" y="3408480"/>
            <a:ext cx="95248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zejrzysta architektura wtyczek ułatwia ich tworzenie - dostępnych są ich dziesiąt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94800"/>
            <a:ext cx="10080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Borland JBuilder 2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6040" y="81000"/>
            <a:ext cx="2285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narzędzia do refaktoryzacji (Ja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395000"/>
            <a:ext cx="10080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Lucida Console"/>
                <a:hlinkClick r:id="rId1"/>
              </a:rPr>
              <a:t>http://www.borland.com/jbui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512640"/>
            <a:ext cx="3098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zędzia komercyj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360" y="1984320"/>
            <a:ext cx="9037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spomagane refaktoryzacje (nie wszystki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2480" y="2368440"/>
            <a:ext cx="865512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tract interface/meth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roduce variable/fie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/remove/reorder paramet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vert existing loops to enhanced loo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urround with </a:t>
            </a:r>
            <a:r>
              <a:rPr b="0" lang="en-GB" sz="2600" spc="-1" strike="noStrike">
                <a:solidFill>
                  <a:srgbClr val="000000"/>
                </a:solidFill>
                <a:latin typeface="Lucida Console"/>
                <a:ea typeface="Courier New"/>
              </a:rPr>
              <a:t>tr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000000"/>
                </a:solidFill>
                <a:latin typeface="Lucida Console"/>
                <a:ea typeface="Courier New"/>
              </a:rPr>
              <a:t>catch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 code selection and automatically add specific catch blocks for all detected and selected excep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name packages/classes/methods/fields/methods arguments/local variab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ve cla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ull up/push down methods/fiel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roduce superclass from multiple cla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lete to inst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voke refactoring from UML diagr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94800"/>
            <a:ext cx="10080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Xrefact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6040" y="81000"/>
            <a:ext cx="2285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narzędzia do refaktoryzacji (Ja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412280"/>
            <a:ext cx="1008072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http://xref-tech.com/xrefactory-java/main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" y="512640"/>
            <a:ext cx="3098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zędzia komercyj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2360" y="1932120"/>
            <a:ext cx="9037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ównież znane jako Xref, X-ref and Xref-Sp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52360" y="4206960"/>
            <a:ext cx="9460080" cy="3266280"/>
            <a:chOff x="252360" y="4206960"/>
            <a:chExt cx="9460080" cy="3266280"/>
          </a:xfrm>
        </p:grpSpPr>
        <p:sp>
          <p:nvSpPr>
            <p:cNvPr id="130" name=""/>
            <p:cNvSpPr/>
            <p:nvPr/>
          </p:nvSpPr>
          <p:spPr>
            <a:xfrm>
              <a:off x="252360" y="4206960"/>
              <a:ext cx="9037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wspomagane refaktoryzacje (m.in.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2480" y="4695840"/>
              <a:ext cx="9129960" cy="27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ethod (function) extrac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naming of packages, classes, parameters, variables, fields (structure records) and methods (function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sertion, deletion and moving of parameters, fields and metho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ushing down and pulling up fields and metho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ncapsulate field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2360" y="2558880"/>
            <a:ext cx="95248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rzędzie dla C i Javy, działa jako wtyczka dla Emacs, XEmacs i j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2360" y="3579840"/>
            <a:ext cx="9524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worzony z myślą o największych projekt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94800"/>
            <a:ext cx="10080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Refactor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6040" y="81000"/>
            <a:ext cx="2285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narzędzia do refaktoryzacji (Ja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412280"/>
            <a:ext cx="1008072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http://www.refactorit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60" y="512640"/>
            <a:ext cx="3098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zędzia komercyj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2360" y="1812960"/>
            <a:ext cx="9037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3880" indent="-3538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tyczka dla Eclipse, JDeveloper, NetBeans i Jbuilder; również jako bardziej samodzielna edycja dla innych IDE i edytorów bardziej tekstowych (jak Ema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52360" y="3130560"/>
            <a:ext cx="9680760" cy="4421160"/>
            <a:chOff x="252360" y="3130560"/>
            <a:chExt cx="9680760" cy="4421160"/>
          </a:xfrm>
        </p:grpSpPr>
        <p:sp>
          <p:nvSpPr>
            <p:cNvPr id="144" name=""/>
            <p:cNvSpPr/>
            <p:nvPr/>
          </p:nvSpPr>
          <p:spPr>
            <a:xfrm>
              <a:off x="252360" y="3130560"/>
              <a:ext cx="9248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53880" indent="-3538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wspomagane refaktoryzacje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0400" y="3500280"/>
              <a:ext cx="934272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rename method, field, type, package prefi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move class, method/field; pull up/push down in hirarch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extract, method, superclass/interfa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create factory method/construct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add delegate methods; override/implement method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inline variable/metho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introduce explaining variabl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change method signatur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convert temp to field; encapsulate fiel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minimize access righ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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use supertype where possibl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am Mazur</dc:creator>
  <dc:description/>
  <dc:language>en-US</dc:language>
  <cp:lastModifiedBy>Kasia Pawlowska</cp:lastModifiedBy>
  <cp:revision>0</cp:revision>
  <dc:subject/>
  <dc:title/>
</cp:coreProperties>
</file>