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42E-15E8-48C6-838E-AF5A9E23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643-C449-4E9A-B792-70A6B1FF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292-4431-43E7-9F0C-5189CDB1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E05-AD07-4517-8223-E51B607D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2E5-A125-46B6-9542-C503BE5D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EDF-0153-4393-B1AB-5C2D5F85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401-94EF-4DC1-8578-F5B5155C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7C2-988B-4AC7-9190-17FA41B6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CA8-8A1E-4B40-820B-1F2B8A4F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5F1-E687-44FF-B8EF-ED1CFFE3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771-3B86-40B0-9599-40B1E62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D22-455B-40A7-B508-CBE2EADE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5CD1-82FB-45B9-8EE4-14F34594C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XDOclet.txt" TargetMode="External"/><Relationship Id="rId2" Type="http://schemas.openxmlformats.org/officeDocument/2006/relationships/hyperlink" Target="http://catdb.xml.txt/" TargetMode="External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ollectionsExample.txt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able-per-hierarchy.txt" TargetMode="External"/><Relationship Id="rId2" Type="http://schemas.openxmlformats.org/officeDocument/2006/relationships/hyperlink" Target="file:///table-per-subclass.txt" TargetMode="External"/><Relationship Id="rId3" Type="http://schemas.openxmlformats.org/officeDocument/2006/relationships/hyperlink" Target="file:///table-per-concreteclass.txt" TargetMode="External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inteface-save.txt" TargetMode="External"/><Relationship Id="rId2" Type="http://schemas.openxmlformats.org/officeDocument/2006/relationships/hyperlink" Target="file:///inteface-load.txt" TargetMode="External"/><Relationship Id="rId3" Type="http://schemas.openxmlformats.org/officeDocument/2006/relationships/hyperlink" Target="file:///inteface-find.txt" TargetMode="External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000000"/>
                </a:solidFill>
                <a:latin typeface="Arial Black"/>
              </a:rPr>
              <a:t>Hiberna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ichał Sł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1DB-436D-497C-A5AD-FC4BF781AB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Konfiguracja Hibernate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Session Fac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zmienny obiekt tworzony zwykle przy starcie aplik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 utworzenia obiektu używana jest konfigurac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SessionFactory sessions = cfg.buildSessionFactory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ssion Factory służy do tworzenia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ołączeń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esj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ibernate umie korzystać z połączeń JDB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dostępnionych mu przez użytkow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java.sql.Connection conn = datasource.getConnection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Session session = sessio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.openSession(con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worzonych przez Hiber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Session session = ses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onFactory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.openSession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 celów komercyjnych należy użyć innego niż wbudowany w Hibernate modułu puli połączeń (w tym celu wraz z Hibernate rozprowadzana jest biblioteka C3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CED-3294-4894-B4BD-90B659EDC6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Konfiguracja Hibernat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figuracja serwera aplikacji Jav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kopiować sterownik JDBC bazy danych do katalogu k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kopiować hibernate2.jar (dla Hibernate w wersji 2.x), oraz skompilowany dodatkowych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ibliotek rozprowadzanych wraz z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Hibern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figuracja Hibernate, przez edycje: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hibernate.cfg.xm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worzenie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trwałej klas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POJ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worzenie pliku mapowania, opisującego sposób rzutowania klasy na bazę da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eneracja tabel. Ręczna, lub za pomocą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chemaExpo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aplikacji rozprowadzanej wraz z Hibernate, która tworzy schemat bazy na podstawie plików rzutowani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363C-C797-4B47-98AD-AEAD7A85AF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rwałe klasy(Persistant Classes)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OJO(Plain Old Java Objec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wałe klasy- klasy reprezentujące pewne konkretne obiekty biznesowe. Ich obiekty mogą być trwałe lub ulot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wałe obiekty powinny spełniać postulaty obiektów P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iekty PO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la przeznaczone do utrwalenia powinny być dostępne przez metody typu setX, getX. Hibernate rozpoznaje także metody is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winny posiadać pusty konstruk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winny posiadać jednoznaczny identyfikator dowolnego typu. Jeśli obiekty trwałe tego nie posiadają, traci się część funkcjonalność Hibern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epiej jest nie używać jako trwałych klas klas docelow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D4D-3C89-4D5A-A403-58CC849DC2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wałe klasy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plementacja trwałych kl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dziedziczeniu trzeba pamiętać o zachowaniu dwóch pierwszych zasad w klasach dziedzicząc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chcemy łączyć w zbiory trwałe obiekty różnych typów, należy przedefiniować dla ich klas funkcje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hash(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equal(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Ponieważ nowe obiekty nie mają jeszcze przydzielonych jednoznacznych identyfikatorów należy do implementacji tych funkcji użyć danych biznesowych obiek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żna zaimplementować interface’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interface Lifecyc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boolean onSave(Session s) throws CallbackExcep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boolean onUpdate(Session s) throws CallbackExcep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boolean onDelete(Session s) throws CallbackExcep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void onLoad(Session s, Serializable id)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interface Validatab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void validate() throws ValidationFailure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2CF-0C8C-4F21-8660-097C187576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wałe klasy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klaracja rzutowa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 Unicode MS"/>
              </a:rPr>
              <a:t>Deklaracja rzutowania w kodzie- Hibernate obsługuje standard 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XDOclet</a:t>
            </a:r>
            <a:r>
              <a:rPr b="1" lang="pl-PL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 Unicode MS"/>
              </a:rPr>
              <a:t>Deklaracja rzutowania w plikach 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XML</a:t>
            </a:r>
            <a:r>
              <a:rPr b="1" lang="pl-PL" sz="2400" spc="-1" strike="noStrike">
                <a:solidFill>
                  <a:srgbClr val="000000"/>
                </a:solidFill>
                <a:latin typeface="Arial Unicode MS"/>
              </a:rPr>
              <a:t> (organizacja modular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984-3640-464B-8F37-A97A36A44B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zutowanie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ó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Hibernate wyróżnia dwa podstawowe typy danych- obiekty i wart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Obiekty istnieją niezależnie od innych obiektów mających do nich referencje. Mogą więc być wersjonowane i dzielić ze sobą referenc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Wartości to typy podstawowe, kolekcje, komponenty i pewne inne niezmienne obiekty. Istnieją wraz z obiektem je przechowującym, nie są więc wersjonow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Hibernate obsługuje wszystkie podstawowe typy Jav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921-89BC-473E-8AF5-F19BD3AA9E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zutowanie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ó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W Hibernate możemy utrwalać enumerator jako wartość jeśli zaimplementujemy w obiekcie enumeratora inte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interface PersistentEnu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int toInt()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void fromInt(int i)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Istnieje relatywnie prosty (jak twierdzą autorzy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) sposób tworzenia własnych typów wart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Możliwe są mapowania obiektów dowolnych typów do jednej tabelki typu </a:t>
            </a:r>
            <a:r>
              <a:rPr b="0" i="1" lang="pl-PL" sz="2400" spc="-1" strike="noStrike">
                <a:solidFill>
                  <a:srgbClr val="000000"/>
                </a:solidFill>
                <a:latin typeface="Arial Unicode MS"/>
              </a:rPr>
              <a:t>&lt;any&gt;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A59-F6E6-4B56-AEC4-55C97D5AFC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zutowanie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olek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Możliwe jest trzymanie kolekcji jak normalnych wartości. Obsługiwane są kolekcje 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Map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Set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SortedMap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SortedSet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List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, tablice wartości i trwałych obiektów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Są pewne zastrzeże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Kolekcje w Hibernate nie zachowują dodatkowej semantyki klas implementujących standardowy interface (np. HashLinkedSe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Kolekcje zachowują się jak 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HashMap, HashSet, TreeMap, TreeSet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lub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 ArrayList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. Wartość przechowują kolekcję musi być jednak typu interface’u (Map, Set... ). Hibernate „podmienia” użyte przez użytkownika kolekc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Kolekcje w przeciwieństwie do wartości pozwalają na współdzielone referencje i nie są usuwane wraz z obiek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37C-A1BA-4D4C-B7BD-65217A0EA8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zutowanie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olek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Kolekcje są automatycznie zapisywane, gdy zapisywany jest obiekt trzymający do nich referencję. Są też kasowane, gdy ginie ostatnio z obiektów na nie wskazują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Kolekcje mogą zawierać prawie każdy inny typ danych- nie mogą zawierać kolek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Mogą zawierać zarówno wartości jak i referencje do trwałych obiek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Elementy kolekcji są mapowane według jednej ze strategii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&lt;element&gt;, &lt;composite-element&gt;, &lt;one-to-many&gt;, &lt;many-to-many&gt;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lub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 &lt;many-to-any&gt;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Obiekty w kolekcji są rozpoznawane na podstawie klucza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(&lt;key&gt;).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Ich reprezentacje w bazie mają kolumnę 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index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Indeksy są rzutowane przy użyciu definicji 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&lt;i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ndex&gt;, &lt;index-many-to-many&gt;, &lt;composite-index&gt;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 &lt;index-many-to-any&gt;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9A3-EDF3-4C9A-8CFC-76872924AA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zutowanie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olek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Kolekcje mogą być leniwie inicjalizow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Hibernate obsługuje dwustronne asocjacje typ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one-to-many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: za pomocą zbioru i wartości po drugiej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many-to-many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: za pomocą pary zbior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Przykład użycia 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OLE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00D-4572-45B0-B726-5DC28A2CC5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0360" y="19807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zym jest Hibern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ólna architektura aplikacji Hiber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onfiguracja Hiber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arzędz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apa drogo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8B7-DD98-4492-A0E6-352327B050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y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 t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Komponenty to obiekty trwałe, zależne od nadrzędnego, które są utrwalane tak jak wartości a nie niezależne obiekty.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class name="eg.Person" table="person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id name="Key" column="pid" type="string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generator class="uuid.hex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/i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property name="birthday" type="date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component name="Name" class="eg.Name"&gt; &lt;!-- class attribute optional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property name="initia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property name="first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property name="last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/compon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/clas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A34-5985-4566-B3FD-72F2193E94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y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życ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mponenty zachowują się głównie jak wartości. Nie ma współdzielenia referencji do nich, są kasowane wraz z niszczeniem rodz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iekty mogą przechowywać kolekcje komponent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mponenty mogą być nawet indeksami obiektów. Muszą wówcz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mplementować 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java.io.Serializ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uszą mieć przedefiniowane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 equals()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 hashCode(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EAA-3F3E-48DE-A47E-2A14A806BC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Dziedziczeni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Możliwości Hiber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ibernate umożliwia realizacje następujących strategii rzutowania dziedzicze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abela dla hierarchii k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abela dla każdej podkl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abela dla konkretnej kl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klasy są rozróżniane w bazie przez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discriminator-valu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518-6893-4AA9-A944-79AAC75A67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Wczytywanie i zapisywa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Zapisywanie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: metoda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save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dczytywanie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: metoda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load()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get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– jeśli znamy identyfikator obiekt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load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wczytuje obiekt, ale jeżeli nie będzie wiersza w tabeli o zadanym kluczu zostanie podniesiony wyjątek nie do przechwycenia. Metoda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get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zwróci w takim razie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Odczytywanie z wyszukiwaniem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 find(), iterat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Zapytania można podawać w specjalnym, obiektowym dialekcie SQL, którego używa Hibernate- HQ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Wyszukiwania mogą zwracać albo obiekty, albo tablice obiektó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Mogą również zwracać nie tylko obiekty ale i wartośc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357-FFD1-4303-BA5B-CEFE55437F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zeszukiwanie bazy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Jeśli chcemy sprecyzować rozmiar danych zwracanych –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createQuery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Query q = sess.createQuery("from DomesticCat ca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q.setFirstResult(2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q.setMaxResults(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List cats = q.list(); </a:t>
            </a:r>
            <a:r>
              <a:rPr b="0" lang="pl-PL" sz="16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Można wywołać przedefiniowane w pliku mapowania szukanie-  </a:t>
            </a:r>
            <a:r>
              <a:rPr b="0" i="1" lang="en" sz="2200" spc="-1" strike="noStrike">
                <a:solidFill>
                  <a:srgbClr val="000000"/>
                </a:solidFill>
                <a:latin typeface="Arial Unicode MS"/>
              </a:rPr>
              <a:t>getNamedQuery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Można też zadać pytanie przez filtrowanie kolekcji-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 filt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Collection blackKittens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ion.filter( pk.getKittens(), "where this.color = ?", Color.BLACK, Hibernate.enum(Color.class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W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filter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można odwoływać się do obiektu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this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i nie potrzeba klauzuli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from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421-AF16-49EE-B212-79329D6877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zeszukiwanie bazy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Przeszukiwanie po kryteriach- Jest to troszkę słabszy mechanizm od HQL, ale bardzo wygodny i ciągle jeszcze rozwijan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Criteria crit = session.createCriteria(Cat.clas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crit.add( Expression.eq("color", eg.Color.BLACK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crit.setMaxResults(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List cats = crit.li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Przeszukiwania w SQL- </a:t>
            </a:r>
            <a:r>
              <a:rPr b="0" i="1" lang="en" sz="2200" spc="-1" strike="noStrike">
                <a:solidFill>
                  <a:srgbClr val="000000"/>
                </a:solidFill>
                <a:latin typeface="Times New Roman"/>
              </a:rPr>
              <a:t>createSQLQuery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List cats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ion.createSQLQuery( "SELECT {cat}.ID AS {cat.id}, {cat}.SEX AS {cat.sex}, "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"{cat}.MATE AS {cat.mate}, {cat}.SUBCLASS AS {cat.class}, ...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”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"FROM CAT {cat} WHERE ROWNUM&lt;10",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"cat", Cat.cla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).lis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5F1-FAA9-45A1-903D-7C5BEF6AD1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Aktualizacja baz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Najprostszym sposobem aktualizacji jest wczytanie obiektu i jego bezpośrednia zmiana. Zmiany na obiektach zapisuje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flush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DomesticCat cat = (DomesticCat) sess.load( Cat.class, new Long(69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cat.setName("PK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.flus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Obiekty odłączone od sesji (ich sesja została np. zamknięta) aktualizujemy metodą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update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Do zapisywania nowego obiektu, lub aktualizacji służy metoda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updateOrSave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Cat cat = (Cat) firstSession.load(Cat.class, cat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Cat mate = new C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cat.setMate(mat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//... Po jakimś  czasie, stara sesja jest zamknięta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secondSession.saveOrUpdate(cat);   // aktualizacja (cat ma id non-nu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secondSession.saveOrUpdate(mate);  // zapis (mate ma id nu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357-242F-4A51-B02F-2FB15AD7F7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Aktualizacja bazy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Ponowne przyłączanie odłączonego od sesji obiektu –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lock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//dolacze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sess.lock(fritz, LockMode.NON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//sprawdza wersje obiektu i dolac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sess.lock(izi, LockMode.REA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//sprawdza wersje obiektu poprzez SELECT ... FOR UPDATE, potem dolac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sess.lock(pk, LockMode.UPGRAD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Kasowanie obiektów –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delete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Kasuje dany obiekt, bądź wynik zapytania HQ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Zapisanie zmian w bazi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niektórych wywołaniach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" sz="2000" spc="-1" strike="noStrike">
                <a:solidFill>
                  <a:srgbClr val="000000"/>
                </a:solidFill>
                <a:latin typeface="Times New Roman"/>
              </a:rPr>
              <a:t>find(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lub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" sz="2000" spc="-1" strike="noStrike">
                <a:solidFill>
                  <a:srgbClr val="000000"/>
                </a:solidFill>
                <a:latin typeface="Times New Roman"/>
              </a:rPr>
              <a:t>iterat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z n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et.sf.hibernate.Transaction.commit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z 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Session.flush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277-CEAD-4E44-A9DE-A7EDEB5C50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Kończenie ses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Kończymy sesje zależnie od połączenia z którego korzystam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y używamy połączenia nadanego przez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ession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tx.commit(); //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albo tx.rollback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.close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żywamy własnego połączenia JD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.flush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.connection().commit(); // not necessary for JTA data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.close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Jeżeli sesja skończy się wyjątkiem należy wykonać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rollback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, zamknąć sesję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close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i zniszczyć obiekt sesj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ion sess = factory.openSessio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Transaction tx = nu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try {tx = sess.beginTransaction(); /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* costam...  */ 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tx.commit(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catch (Exception e) { if (tx!=null) tx.rollback(); throw e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finally { sess.close(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A9D-CA3C-4743-BDDE-23959BCE3D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rzędzia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rzędzia dostępne w dystrybu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 Generator- Do generowania plików DDL na podstawie plików mapow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de Generation- Do generowania deklaracji klas, na podstawie plików mapow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pping File Generation- Do generowania plików mapowania na podstawie skompilowanych trwałych k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AF5-B42B-4657-BD1F-3D21E2336C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Czym jest i co zawie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ibernate- biblioteka J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el- zastąpienie ciężkiej pracy programisty... Przesłonięcie zabawy z 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dea- rzutowanie z modelu obiektowego na relacyj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pis i odczyt obiektów Java w bazie danych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chanizm przeglądania bazy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żliwość obsługi wszystkich standardowych obiektów Javy, także kolekcj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sługa większości standardów baz danych i rozszerzeń technologii J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7C1-A1C8-4866-AF98-66441A942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Mapa Drogow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343040" y="1676160"/>
            <a:ext cx="4419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Hibernat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owa, przełomowa wersja Hiber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irtualizacja – filtrowanie na poziomie ses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iększa uniwersalność rzut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owanie statystyk przy użyciu JM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zależność reprezentacji – możliwość odejścia od modelu PO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bsługa zdań SQL użytkownik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bsługa zdar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eniwe czytanie k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Łatwiejszy w obsłud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wiele innych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1676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76520"/>
            <a:ext cx="3276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Hibernate 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letna, stabilna wersja Hibernate, o która oparłem tą prezentac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352680"/>
            <a:ext cx="36576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Hibernate EJ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ęść EJB industry standard, stworzonego przez EJB3 Expert Group. Próba integracji mapowania obiektowo-relacyjnego z centrum Jav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E58-60B8-4363-88CA-95E652F405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http://www.hibernate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http://hibernate.sourceforge.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Amethyst"/>
              </a:rPr>
              <a:t>Dziękuję za uwag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B03-0623-4F94-AEB9-244546C582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Czym się chwalą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ibernate zapewnia trwałość obiektów bez potrzeby pisania dodatkowego ko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aje obiektowy język zapytań do bazy danych – HQ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alizuje w sposób możliwie najbardziej uniwersalny rzutowanie z modelu obiektowego na relacyj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e AP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utomatyczne generowanie kluczy głów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efiniowanie rzutowania w standardzie X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DLCA- Architektura Hiber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skonała wydajn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ełna integracja ze standardami J2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podobno jeszcze więcej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EC3-45E2-42E0-A4E4-10BC41B89C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Architek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hibernateOverview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7736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061-4347-45DD-925F-D554216B54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Architek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57913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Hibenate jest narzędziem możliwie uniwersalnym, aplikacje wykorzystują bibliotekę na różne sposoby. Powyżej dwa przykład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2057400"/>
          <a:ext cx="8763120" cy="36831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36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hibernateLite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55" name="hibernateFull_cream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1371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689-D94C-4333-B712-E0BAD07C95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chitektur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yjaśnie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343400" y="4114800"/>
            <a:ext cx="4191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nnection Provi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lasa tworząca połączenia. Jest niewidoczna dla programisty, ale możliwe jest jej przedefiniowanie, podm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ransaction Facto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lasa tworząca obiekty transak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07732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ession Facto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ały obiekt odpowiedzialny za tworzenie połączeń z bazą da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ess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elotny obiekt odpowiedzialny za jednowątkową komunikację klient-serwer. Używa połączenia JDB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ransa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ransakcja reprezentująca odpowiednik atomowej transakcji na bazie da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35812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ersistant Ob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lotne obiekty reprezentujące obiekty trwałe. Są skojarzone z dokładnie jedną sesj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ransient Ob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biekty trwałych klas, nie skojarzone z sesj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0A8-3FF9-4505-AA9E-CD85A0E222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Konfiguracja Hibernate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t.sf.hibernate.cfg.Config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iekt konfiguracji jest potrzebny do zbudowania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ession Factor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Po jej zbudowaniu staje się bezużytec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iera opis interface’u z bazą danych, sposób rzutowania obiektów Javy na bazę SQL, opcje połączenia z bazą... I wiele innych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powanie obiektów jest wczytywane zwykle z pliku X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" sz="1200" spc="-1" strike="noStrike">
                <a:solidFill>
                  <a:srgbClr val="000000"/>
                </a:solidFill>
                <a:latin typeface="Arial"/>
              </a:rPr>
              <a:t>Configuration cfg = new Configuratio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" sz="1200" spc="-1" strike="noStrike">
                <a:solidFill>
                  <a:srgbClr val="000000"/>
                </a:solidFill>
                <a:latin typeface="Arial"/>
              </a:rPr>
              <a:t>.addFile("Item.hbm.xml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figuracja może być ustawiana w kodzie progra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Properties props = new Properties(); 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Configuration cfg = new Configuratio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.addClass(org.hibernate.auction.Item.class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.setProperties(prop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figuracja domyślna znajduje się w plikach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ibernate.properties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ibernate.config.xm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Zmiana pliku konfigur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 Unicode MS"/>
              </a:rPr>
              <a:t>SessionFactory sf = new Configuration() .configure(</a:t>
            </a:r>
            <a:r>
              <a:rPr b="0" lang="pl-PL" sz="1200" spc="-1" strike="noStrike">
                <a:solidFill>
                  <a:srgbClr val="000000"/>
                </a:solidFill>
                <a:latin typeface="Arial Unicode MS"/>
              </a:rPr>
              <a:t>”my</a:t>
            </a:r>
            <a:r>
              <a:rPr b="0" lang="en" sz="1200" spc="-1" strike="noStrike">
                <a:solidFill>
                  <a:srgbClr val="000000"/>
                </a:solidFill>
                <a:latin typeface="Arial Unicode MS"/>
              </a:rPr>
              <a:t>db.cfg.xml") .buildSessionFactory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665-742B-4250-BB85-121006B1E7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Konfiguracja Hibernate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t.sf.hibernate.cfg.Config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Jednym z rozwiązań jest edycja pliku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hibernate.config.x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?xml version='1.0' encoding='utf-8'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!DOCTYPE hibernate-configuration PUBLIC "-//Hibernate/Hibernate Configuration DTD 2.0//EN" "http://hibernate.sourceforge.net/hibernate-configuration-2.0.dtd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hibernate-configura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!-- a SessionFactory instance listed as /jndi/name 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session-factory name="java:comp/env/hibernate/SessionFactory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!-- properties --&gt; &lt;property name="connection.datasource"&gt;my/first/datasource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property name="dialect"&gt;net.sf.hibernate.dialect.MySQLDialect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property name="show_sql"&gt;false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property name="use_outer_join"&gt;true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property name="transaction.factory_cla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net.sf.hibernate.transaction.JTATransactionFactory 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property name="jta.UserTransaction"&gt;java:comp/UserTransaction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!-- mapping files --&gt; &lt;mapping resource="org/hibernate/auction/Item.hbm.xml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/session-factor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/hibernate-configura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ówczas konfiguracja Hibernate w kodzie zamyka się 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SessionFactory sf = new Configuration().configure().buildSessionFactory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2EB-7312-4EFF-87E0-7C0BECB9B4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0:42:15Z</dcterms:created>
  <dc:creator>Swaper</dc:creator>
  <dc:description/>
  <dc:language>en-US</dc:language>
  <cp:lastModifiedBy>Swaper</cp:lastModifiedBy>
  <dcterms:modified xsi:type="dcterms:W3CDTF">2004-10-24T21:54:20Z</dcterms:modified>
  <cp:revision>24</cp:revision>
  <dc:subject/>
  <dc:title>Hibernate</dc:title>
</cp:coreProperties>
</file>